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4DC21D-9A48-483E-BD17-6C3E742CC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2E2F0A-EA00-4F1E-B857-3AC631E65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FA872D-56C8-4F7D-9056-87F26E9C2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175026-0BCD-4F92-B2A7-385DA8EE7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BF5A71-CAD8-4C9D-8F52-BEDFE6DA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CEFB4A-9118-4837-AAAA-A4FBFE4FD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8EFC45-B9A2-4C72-9487-A209790E5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7C6145-9582-4CC1-BA59-31E975AA9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EDA4F1-8368-4437-B4BA-504EA1CCF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5DBBE4-B874-4FD0-94A2-B1CFD082C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Autofit/>
          </a:bodyPr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tel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gevensschets stelse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uteur: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J. Campschroer / W.Krijgs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ie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1.0.5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12-01-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EF75D4-A614-4306-BA0E-AA3CD9AE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8558-A4E4-4A22-A264-040BCDCE1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2338-3F05-490B-8E81-2EBACC5C1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2A84-8E24-4AA9-AFD1-9274F7804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64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88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64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88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D862-FB65-4F77-A745-A21220963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1047600"/>
            <a:ext cx="794232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489E-ECE5-4FD1-AD07-7EF870198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64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64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F59E-470D-48D6-87CC-439CC311B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1C9D-B016-4A93-845D-8BB76B0C9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6A6A-E380-4446-943D-3A88D60CF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1047600"/>
            <a:ext cx="794232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B30C-9E91-4CC7-9E36-827FEA82C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B13E-4C65-414C-B19D-E99DF6565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35AA-C08D-47A6-8884-5F9CFE5B0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63D8-CAC7-44AC-9C8F-03143E074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8840" indent="-30384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75120" indent="-52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20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97F965BD-40F8-42E8-815B-DF5C96C54D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58584B78-5C3B-43FE-A60F-3144F7A81B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513720" algn="ctr"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5480" indent="4827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0640" indent="791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0640" indent="791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0640" indent="791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6312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SGB:  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Referentiemodel 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elsel van Gemeentelijke Basisgegeve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4571640"/>
            <a:ext cx="6945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 Regiegro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jan Kloosterbo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2 ok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65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 BAG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2195640" y="2039760"/>
          <a:ext cx="5976720" cy="42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2039760"/>
                    <a:ext cx="5976720" cy="42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81D1-D065-4368-A69C-AE0245E41C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et RSGB, wat is he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23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bjecten- of gegevens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entelijke basisgegevens: het landelijk stelsel en m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ndaardisatie van 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gevens die bij elke gemeente uniform opvraagbaar 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akenkader voor digitale communicatie over 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6600"/>
                </a:solidFill>
                <a:latin typeface="Arial"/>
              </a:rPr>
              <a:t>het hart van de gemeentelijke informatie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asis cq. informatiebron voor levering van gemeentelijke producten en 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opvolger van het GFO Basisgegevens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database(-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7A3B-D6B3-43CD-84A3-34388A887D78}" type="slidenum">
              <a:t>11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7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2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vorderen binnengemeentelijk gebruik basis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49200"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volger van het GFO BasisGegevens (GFO B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len op landelijk stelsel van basis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49200"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tegratie en afbakening gemeentelijke basis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malig onderhoud en meervoudig gebruik van basis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49200"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atorische veran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wisselbaarheid van basisgegevens tussen applic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49200"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uwe versie van StUF: 03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nutten basisgegevens in de totale informatievoorzi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26E9-2F95-4C55-810C-90A4F2B52CD0}" type="slidenum">
              <a:t>12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0"/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0"/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: wat en waa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d1b03"/>
                </a:solidFill>
                <a:latin typeface="Arial"/>
              </a:rPr>
              <a:t>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 in de gemeentelijke prakt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agen en discus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4780-71B5-4C50-B644-7A5117C23B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SGB: ontwikkeli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23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igi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4956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SGB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85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s gevolg van wijzigingen in basisregistraties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K 1.0.2, NHR 0.9 en PvE NHR 1.6,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85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tschrijdend inzicht (GBA LO 3.6, metagegeve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4956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jzigingenbeheer inrichte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talen naar StUF: StUF-BG 3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breid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4956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SGB Zaken: GFO Zaken en doc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oling om te beheren en te ontslu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motie naar gemeenten, leveranciers en stel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SGB als standaard bij andere e-overheidsprogramm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4E4F-0888-42D2-9894-258CAFAB54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687708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948360" y="1125000"/>
            <a:ext cx="194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4b0055"/>
                </a:solidFill>
                <a:latin typeface="Arial"/>
              </a:rPr>
              <a:t>RSGB</a:t>
            </a:r>
            <a:br>
              <a:rPr sz="2400"/>
            </a:br>
            <a:r>
              <a:rPr b="1" lang="nl-NL" sz="2400" spc="-1" strike="noStrike">
                <a:solidFill>
                  <a:srgbClr val="4b0055"/>
                </a:solidFill>
                <a:latin typeface="Arial"/>
              </a:rPr>
              <a:t>incl. z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250920" y="260280"/>
          <a:ext cx="6626160" cy="58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662616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BBE9-88B9-4654-9648-0A33D139F8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: wat en waa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d1b03"/>
                </a:solidFill>
                <a:latin typeface="Arial"/>
              </a:rPr>
              <a:t>Het RSGB in de gemeentelijke prakt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agen en discus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5F12-EE9A-4923-BFAB-03FD9D447F8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meentelijke praktijk: situatie n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FO-BG-gebaseerde registraties e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0" y="3205080"/>
            <a:ext cx="4788000" cy="311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5" name=""/>
          <p:cNvGraphicFramePr/>
          <p:nvPr/>
        </p:nvGraphicFramePr>
        <p:xfrm>
          <a:off x="4859280" y="3273480"/>
          <a:ext cx="409752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73480"/>
                    <a:ext cx="409752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3635280" y="4365720"/>
            <a:ext cx="2665440" cy="718920"/>
          </a:xfrm>
          <a:prstGeom prst="rightArrow">
            <a:avLst>
              <a:gd name="adj1" fmla="val 50000"/>
              <a:gd name="adj2" fmla="val 92689"/>
            </a:avLst>
          </a:prstGeom>
          <a:solidFill>
            <a:srgbClr val="ff99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F9FF-5DB4-4BC1-B0FB-01C2F5B0C4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942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an GFO-BasisGegevens naar landelijke basisregistraties op basis van het RSG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lijke informatiebehoefte is uitgangs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lleen de catalogus van de landelijke basisregist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het stelsel, niet om een individuele basisregist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woord met het RS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56EE-EBD2-4CE2-A84A-BED7C1390D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Arial"/>
              </a:rPr>
              <a:t>Vragen? </a:t>
            </a:r>
            <a:br>
              <a:rPr sz="2900"/>
            </a:br>
            <a:br>
              <a:rPr sz="2900"/>
            </a:br>
            <a:r>
              <a:rPr b="1" lang="nl-NL" sz="2900" spc="-1" strike="noStrike">
                <a:solidFill>
                  <a:srgbClr val="000000"/>
                </a:solidFill>
                <a:latin typeface="Arial"/>
              </a:rPr>
              <a:t>Discussie?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5391000" y="2133720"/>
            <a:ext cx="3583080" cy="41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471C-CACE-455E-B82B-811CB39B67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: wat en waa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 in de gemeentelijke prakt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agen en discus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3D6A-E6F7-471F-AA6B-53FCE1C392F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d1b03"/>
                </a:solidFill>
                <a:latin typeface="Arial"/>
              </a:rPr>
              <a:t>Het RSGB: wat en waa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 in de gemeentelijke prakt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agen en discus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B23B-FF83-491C-96B2-DE15007A8F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6229440" cy="509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67280" y="3357720"/>
            <a:ext cx="1439640" cy="1439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161000">
            <a:off x="1380600" y="3141000"/>
            <a:ext cx="53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d1b03"/>
                </a:solidFill>
                <a:latin typeface="Arial"/>
              </a:rPr>
              <a:t>Sectormodel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19D8-90D1-49C3-953B-0F64BEBBA4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et RSGB, wat is he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bjecten- of gegevens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lijke basisgegevens: het landelijk stelsel en m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7DB3-B5CA-4DDC-9F59-044C27ACE510}" type="slidenum">
              <a:t>5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2058840"/>
            <a:ext cx="7380360" cy="4799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674676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FO Basisgegevens 199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3DB7-F1CB-45A2-97B3-781D2478E1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84240" y="20574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99080" y="190980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960" y="1338120"/>
            <a:ext cx="970200" cy="9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620059"/>
                </a:solidFill>
                <a:latin typeface="Arial"/>
              </a:rPr>
              <a:t>Gegevensschets van het stelsel per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1640" y="4248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98920" y="375444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240" y="3713040"/>
            <a:ext cx="118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1360" y="2629080"/>
            <a:ext cx="2873160" cy="1185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2640" y="275436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51280" y="1117440"/>
            <a:ext cx="3413160" cy="4759560"/>
          </a:xfrm>
          <a:custGeom>
            <a:avLst/>
            <a:gdLst>
              <a:gd name="textAreaLeft" fmla="*/ 166320 w 3413160"/>
              <a:gd name="textAreaRight" fmla="*/ 3246840 w 3413160"/>
              <a:gd name="textAreaTop" fmla="*/ 166320 h 4759560"/>
              <a:gd name="textAreaBottom" fmla="*/ 4593240 h 4759560"/>
            </a:gdLst>
            <a:ahLst/>
            <a:rect l="textAreaLeft" t="textAreaTop" r="textAreaRight" b="textAreaBottom"/>
            <a:pathLst>
              <a:path w="21600" h="30120">
                <a:moveTo>
                  <a:pt x="3600" y="0"/>
                </a:moveTo>
                <a:arcTo wR="3600" hR="3600" stAng="16200000" swAng="-5400000"/>
                <a:lnTo>
                  <a:pt x="0" y="26520"/>
                </a:lnTo>
                <a:arcTo wR="3600" hR="3600" stAng="10800000" swAng="-5400000"/>
                <a:lnTo>
                  <a:pt x="18000" y="30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43400" y="1216080"/>
            <a:ext cx="614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Ruimtelijk 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43760" y="4419720"/>
            <a:ext cx="974880" cy="236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2080" y="4397400"/>
            <a:ext cx="974520" cy="2359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2080" y="4395960"/>
            <a:ext cx="974520" cy="2360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02440" y="4448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2840" y="2638440"/>
            <a:ext cx="30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Pers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2894040"/>
            <a:ext cx="735120" cy="83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2874960"/>
            <a:ext cx="734760" cy="8319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2874960"/>
            <a:ext cx="734760" cy="831960"/>
          </a:xfrm>
          <a:prstGeom prst="rect">
            <a:avLst/>
          </a:prstGeom>
          <a:solidFill>
            <a:srgbClr val="99ff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99800" y="287820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46360" y="2900520"/>
            <a:ext cx="882720" cy="243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06760" y="2874960"/>
            <a:ext cx="882720" cy="2440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06760" y="2874960"/>
            <a:ext cx="882720" cy="244008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160" y="287820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N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421160"/>
            <a:ext cx="1484280" cy="146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97520" y="4397400"/>
            <a:ext cx="1482480" cy="1468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97520" y="4397400"/>
            <a:ext cx="1482480" cy="1468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73720" y="45244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120080" y="4797360"/>
            <a:ext cx="576000" cy="317520"/>
            <a:chOff x="7120080" y="4797360"/>
            <a:chExt cx="576000" cy="317520"/>
          </a:xfrm>
        </p:grpSpPr>
        <p:sp>
          <p:nvSpPr>
            <p:cNvPr id="131" name=""/>
            <p:cNvSpPr/>
            <p:nvPr/>
          </p:nvSpPr>
          <p:spPr>
            <a:xfrm>
              <a:off x="7120080" y="4797360"/>
              <a:ext cx="5760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20080" y="4797360"/>
              <a:ext cx="57600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184880" y="4892760"/>
            <a:ext cx="43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Woonplaa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18080" y="1344600"/>
            <a:ext cx="2127240" cy="959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84600" y="1311120"/>
            <a:ext cx="2111400" cy="966960"/>
          </a:xfrm>
          <a:prstGeom prst="rect">
            <a:avLst/>
          </a:prstGeom>
          <a:solidFill>
            <a:srgbClr val="66ff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91080" y="13017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7920" y="2459160"/>
            <a:ext cx="969840" cy="87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96240" y="2432160"/>
            <a:ext cx="969840" cy="871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96240" y="2432160"/>
            <a:ext cx="969840" cy="8715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07280" y="2511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BK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2080" y="1335240"/>
            <a:ext cx="969840" cy="9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80400" y="1306440"/>
            <a:ext cx="969840" cy="968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0400" y="1306440"/>
            <a:ext cx="969840" cy="9684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93000" y="13176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39160" y="1809720"/>
            <a:ext cx="6966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39160" y="1809720"/>
            <a:ext cx="69660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44280" y="1847880"/>
            <a:ext cx="46260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Kleinschali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43920" y="1974960"/>
            <a:ext cx="4125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Geo-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4040" y="5956200"/>
            <a:ext cx="10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51" idx="2"/>
            <a:endCxn id="152" idx="0"/>
          </p:cNvCxnSpPr>
          <p:nvPr/>
        </p:nvCxnSpPr>
        <p:spPr>
          <a:xfrm>
            <a:off x="7405200" y="6194160"/>
            <a:ext cx="2520" cy="130680"/>
          </a:xfrm>
          <a:prstGeom prst="straightConnector1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153" name=""/>
          <p:cNvCxnSpPr>
            <a:stCxn id="132" idx="2"/>
            <a:endCxn id="151" idx="0"/>
          </p:cNvCxnSpPr>
          <p:nvPr/>
        </p:nvCxnSpPr>
        <p:spPr>
          <a:xfrm flipH="1">
            <a:off x="7404840" y="5114520"/>
            <a:ext cx="3960" cy="762840"/>
          </a:xfrm>
          <a:prstGeom prst="straightConnector1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154" name=""/>
          <p:cNvCxnSpPr>
            <a:stCxn id="132" idx="3"/>
            <a:endCxn id="152" idx="3"/>
          </p:cNvCxnSpPr>
          <p:nvPr/>
        </p:nvCxnSpPr>
        <p:spPr>
          <a:xfrm flipH="1">
            <a:off x="7690680" y="4955760"/>
            <a:ext cx="5400" cy="1537560"/>
          </a:xfrm>
          <a:prstGeom prst="bentConnector3">
            <a:avLst>
              <a:gd name="adj1" fmla="val -4800000"/>
            </a:avLst>
          </a:prstGeom>
          <a:ln w="19080">
            <a:solidFill>
              <a:srgbClr val="0066cc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5824440" y="57070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34120" y="641664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4"/>
            <a:endCxn id="159" idx="2"/>
          </p:cNvCxnSpPr>
          <p:nvPr/>
        </p:nvCxnSpPr>
        <p:spPr>
          <a:xfrm flipH="1" rot="16200000">
            <a:off x="3841560" y="4361400"/>
            <a:ext cx="442080" cy="200268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3025800" y="50706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84120" y="535932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34640" y="373536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25800" y="47480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4" idx="4"/>
            <a:endCxn id="162" idx="0"/>
          </p:cNvCxnSpPr>
          <p:nvPr/>
        </p:nvCxnSpPr>
        <p:spPr>
          <a:xfrm flipV="1" rot="10800000">
            <a:off x="3061440" y="4501800"/>
            <a:ext cx="1080" cy="24660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3025800" y="44308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45120" y="19828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9200" y="42037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4200" y="230976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22760" y="230364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07040" y="53071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07040" y="471816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90680" y="197640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95000" y="1703520"/>
            <a:ext cx="1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I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60520" y="1344600"/>
            <a:ext cx="969840" cy="965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8840" y="1306440"/>
            <a:ext cx="969840" cy="968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28840" y="1306440"/>
            <a:ext cx="969840" cy="9684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1440" y="131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36800" y="20494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4160" y="1306440"/>
            <a:ext cx="969840" cy="961920"/>
          </a:xfrm>
          <a:prstGeom prst="rect">
            <a:avLst/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3520" y="131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2720" y="20541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1480" y="23353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7680" y="234144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85880" y="1341360"/>
            <a:ext cx="970200" cy="9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4200" y="1403280"/>
            <a:ext cx="970200" cy="87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4200" y="1306440"/>
            <a:ext cx="970200" cy="968400"/>
          </a:xfrm>
          <a:prstGeom prst="rect">
            <a:avLst/>
          </a:prstGeom>
          <a:solidFill>
            <a:srgbClr val="ffcc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67160" y="13143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01880" y="2049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45160" y="231624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84320" y="2049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9200" y="231624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92240" y="23065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7920" y="2894040"/>
            <a:ext cx="735120" cy="83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7400" y="2879640"/>
            <a:ext cx="735120" cy="831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5960" y="2874960"/>
            <a:ext cx="734760" cy="8319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360" y="2870280"/>
            <a:ext cx="234360" cy="16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39960" y="3152880"/>
            <a:ext cx="634680" cy="436320"/>
            <a:chOff x="939960" y="3152880"/>
            <a:chExt cx="634680" cy="436320"/>
          </a:xfrm>
        </p:grpSpPr>
        <p:grpSp>
          <p:nvGrpSpPr>
            <p:cNvPr id="197" name=""/>
            <p:cNvGrpSpPr/>
            <p:nvPr/>
          </p:nvGrpSpPr>
          <p:grpSpPr>
            <a:xfrm>
              <a:off x="939960" y="3152880"/>
              <a:ext cx="634680" cy="436320"/>
              <a:chOff x="939960" y="3152880"/>
              <a:chExt cx="634680" cy="436320"/>
            </a:xfrm>
          </p:grpSpPr>
          <p:sp>
            <p:nvSpPr>
              <p:cNvPr id="198" name=""/>
              <p:cNvSpPr/>
              <p:nvPr/>
            </p:nvSpPr>
            <p:spPr>
              <a:xfrm>
                <a:off x="939960" y="3152880"/>
                <a:ext cx="634680" cy="4363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39960" y="3152880"/>
                <a:ext cx="634680" cy="4363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72160" y="3240000"/>
              <a:ext cx="1760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Niet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64160" y="3367080"/>
              <a:ext cx="4078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040520" y="3436920"/>
            <a:ext cx="969840" cy="87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08840" y="3409920"/>
            <a:ext cx="969840" cy="871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08840" y="3409920"/>
            <a:ext cx="969840" cy="8715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9880" y="348948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167600" y="3816360"/>
            <a:ext cx="696960" cy="317520"/>
            <a:chOff x="7167600" y="3816360"/>
            <a:chExt cx="696960" cy="317520"/>
          </a:xfrm>
        </p:grpSpPr>
        <p:sp>
          <p:nvSpPr>
            <p:cNvPr id="207" name=""/>
            <p:cNvSpPr/>
            <p:nvPr/>
          </p:nvSpPr>
          <p:spPr>
            <a:xfrm>
              <a:off x="7167600" y="381636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7600" y="381636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267680" y="3867120"/>
            <a:ext cx="52992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Ondergrond”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12920" y="1805040"/>
            <a:ext cx="696600" cy="323640"/>
            <a:chOff x="412920" y="1805040"/>
            <a:chExt cx="696600" cy="323640"/>
          </a:xfrm>
        </p:grpSpPr>
        <p:grpSp>
          <p:nvGrpSpPr>
            <p:cNvPr id="211" name=""/>
            <p:cNvGrpSpPr/>
            <p:nvPr/>
          </p:nvGrpSpPr>
          <p:grpSpPr>
            <a:xfrm>
              <a:off x="412920" y="1805040"/>
              <a:ext cx="696600" cy="323640"/>
              <a:chOff x="412920" y="1805040"/>
              <a:chExt cx="696600" cy="323640"/>
            </a:xfrm>
          </p:grpSpPr>
          <p:sp>
            <p:nvSpPr>
              <p:cNvPr id="212" name=""/>
              <p:cNvSpPr/>
              <p:nvPr/>
            </p:nvSpPr>
            <p:spPr>
              <a:xfrm>
                <a:off x="412920" y="1805040"/>
                <a:ext cx="696600" cy="323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2920" y="1805040"/>
                <a:ext cx="696600" cy="3236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495720" y="1833480"/>
              <a:ext cx="4932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Gekenteke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6080" y="1958760"/>
              <a:ext cx="32112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oertu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84520" y="3152880"/>
            <a:ext cx="634680" cy="436320"/>
            <a:chOff x="1784520" y="3152880"/>
            <a:chExt cx="634680" cy="436320"/>
          </a:xfrm>
        </p:grpSpPr>
        <p:grpSp>
          <p:nvGrpSpPr>
            <p:cNvPr id="217" name=""/>
            <p:cNvGrpSpPr/>
            <p:nvPr/>
          </p:nvGrpSpPr>
          <p:grpSpPr>
            <a:xfrm>
              <a:off x="1784520" y="3152880"/>
              <a:ext cx="634680" cy="436320"/>
              <a:chOff x="1784520" y="3152880"/>
              <a:chExt cx="634680" cy="436320"/>
            </a:xfrm>
          </p:grpSpPr>
          <p:sp>
            <p:nvSpPr>
              <p:cNvPr id="218" name=""/>
              <p:cNvSpPr/>
              <p:nvPr/>
            </p:nvSpPr>
            <p:spPr>
              <a:xfrm>
                <a:off x="1784520" y="3152880"/>
                <a:ext cx="634680" cy="4363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84520" y="3152880"/>
                <a:ext cx="634680" cy="4363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1905480" y="3244680"/>
              <a:ext cx="39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670120" y="3152880"/>
            <a:ext cx="747720" cy="436320"/>
            <a:chOff x="2670120" y="3152880"/>
            <a:chExt cx="747720" cy="436320"/>
          </a:xfrm>
        </p:grpSpPr>
        <p:grpSp>
          <p:nvGrpSpPr>
            <p:cNvPr id="222" name=""/>
            <p:cNvGrpSpPr/>
            <p:nvPr/>
          </p:nvGrpSpPr>
          <p:grpSpPr>
            <a:xfrm>
              <a:off x="2670120" y="3152880"/>
              <a:ext cx="747720" cy="436320"/>
              <a:chOff x="2670120" y="3152880"/>
              <a:chExt cx="747720" cy="436320"/>
            </a:xfrm>
          </p:grpSpPr>
          <p:sp>
            <p:nvSpPr>
              <p:cNvPr id="223" name=""/>
              <p:cNvSpPr/>
              <p:nvPr/>
            </p:nvSpPr>
            <p:spPr>
              <a:xfrm>
                <a:off x="2670120" y="3152880"/>
                <a:ext cx="747720" cy="4363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70120" y="3152880"/>
                <a:ext cx="747720" cy="4363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878200" y="3181320"/>
              <a:ext cx="354240" cy="345240"/>
              <a:chOff x="2878200" y="3181320"/>
              <a:chExt cx="354240" cy="345240"/>
            </a:xfrm>
          </p:grpSpPr>
          <p:sp>
            <p:nvSpPr>
              <p:cNvPr id="226" name=""/>
              <p:cNvSpPr/>
              <p:nvPr/>
            </p:nvSpPr>
            <p:spPr>
              <a:xfrm>
                <a:off x="2989080" y="3181320"/>
                <a:ext cx="14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Nie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78200" y="3308040"/>
                <a:ext cx="3542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Natuurlij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27160" y="3434760"/>
                <a:ext cx="303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perso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670120" y="4748040"/>
            <a:ext cx="765360" cy="397080"/>
            <a:chOff x="2670120" y="4748040"/>
            <a:chExt cx="765360" cy="397080"/>
          </a:xfrm>
        </p:grpSpPr>
        <p:grpSp>
          <p:nvGrpSpPr>
            <p:cNvPr id="230" name=""/>
            <p:cNvGrpSpPr/>
            <p:nvPr/>
          </p:nvGrpSpPr>
          <p:grpSpPr>
            <a:xfrm>
              <a:off x="2670120" y="4748040"/>
              <a:ext cx="765360" cy="397080"/>
              <a:chOff x="2670120" y="4748040"/>
              <a:chExt cx="765360" cy="397080"/>
            </a:xfrm>
          </p:grpSpPr>
          <p:sp>
            <p:nvSpPr>
              <p:cNvPr id="231" name=""/>
              <p:cNvSpPr/>
              <p:nvPr/>
            </p:nvSpPr>
            <p:spPr>
              <a:xfrm>
                <a:off x="2670120" y="4748040"/>
                <a:ext cx="765360" cy="3970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70120" y="4748040"/>
                <a:ext cx="765360" cy="3970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907360" y="4895640"/>
              <a:ext cx="34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estig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587600" y="180972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87600" y="1809720"/>
            <a:ext cx="696960" cy="317520"/>
            <a:chOff x="1587600" y="1809720"/>
            <a:chExt cx="696960" cy="317520"/>
          </a:xfrm>
        </p:grpSpPr>
        <p:sp>
          <p:nvSpPr>
            <p:cNvPr id="236" name=""/>
            <p:cNvSpPr/>
            <p:nvPr/>
          </p:nvSpPr>
          <p:spPr>
            <a:xfrm>
              <a:off x="1587600" y="180972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74800" y="1917720"/>
              <a:ext cx="3254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Inkome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668680" y="1803240"/>
            <a:ext cx="69696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120080" y="5877000"/>
            <a:ext cx="571320" cy="317160"/>
            <a:chOff x="7120080" y="5877000"/>
            <a:chExt cx="571320" cy="317160"/>
          </a:xfrm>
        </p:grpSpPr>
        <p:grpSp>
          <p:nvGrpSpPr>
            <p:cNvPr id="240" name=""/>
            <p:cNvGrpSpPr/>
            <p:nvPr/>
          </p:nvGrpSpPr>
          <p:grpSpPr>
            <a:xfrm>
              <a:off x="7120080" y="5877000"/>
              <a:ext cx="571320" cy="317160"/>
              <a:chOff x="7120080" y="5877000"/>
              <a:chExt cx="571320" cy="317160"/>
            </a:xfrm>
          </p:grpSpPr>
          <p:sp>
            <p:nvSpPr>
              <p:cNvPr id="241" name=""/>
              <p:cNvSpPr/>
              <p:nvPr/>
            </p:nvSpPr>
            <p:spPr>
              <a:xfrm>
                <a:off x="7120080" y="5877000"/>
                <a:ext cx="571320" cy="3171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20080" y="5877000"/>
                <a:ext cx="571320" cy="3171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7243920" y="5918040"/>
              <a:ext cx="35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penb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03680" y="6045120"/>
              <a:ext cx="234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ruim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121520" y="6324480"/>
            <a:ext cx="569880" cy="336600"/>
            <a:chOff x="7121520" y="6324480"/>
            <a:chExt cx="569880" cy="336600"/>
          </a:xfrm>
        </p:grpSpPr>
        <p:grpSp>
          <p:nvGrpSpPr>
            <p:cNvPr id="245" name=""/>
            <p:cNvGrpSpPr/>
            <p:nvPr/>
          </p:nvGrpSpPr>
          <p:grpSpPr>
            <a:xfrm>
              <a:off x="7121520" y="6324480"/>
              <a:ext cx="569880" cy="336600"/>
              <a:chOff x="7121520" y="6324480"/>
              <a:chExt cx="569880" cy="336600"/>
            </a:xfrm>
          </p:grpSpPr>
          <p:sp>
            <p:nvSpPr>
              <p:cNvPr id="246" name=""/>
              <p:cNvSpPr/>
              <p:nvPr/>
            </p:nvSpPr>
            <p:spPr>
              <a:xfrm>
                <a:off x="7121520" y="6324480"/>
                <a:ext cx="569880" cy="336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21520" y="6324480"/>
                <a:ext cx="569880" cy="33660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7251120" y="6395040"/>
              <a:ext cx="33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Nummer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31680" y="6493320"/>
              <a:ext cx="41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aanduid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054760" y="5230800"/>
            <a:ext cx="1368360" cy="555480"/>
            <a:chOff x="5054760" y="5230800"/>
            <a:chExt cx="1368360" cy="555480"/>
          </a:xfrm>
        </p:grpSpPr>
        <p:grpSp>
          <p:nvGrpSpPr>
            <p:cNvPr id="250" name=""/>
            <p:cNvGrpSpPr/>
            <p:nvPr/>
          </p:nvGrpSpPr>
          <p:grpSpPr>
            <a:xfrm>
              <a:off x="5054760" y="5230800"/>
              <a:ext cx="1368360" cy="555480"/>
              <a:chOff x="5054760" y="5230800"/>
              <a:chExt cx="1368360" cy="555480"/>
            </a:xfrm>
          </p:grpSpPr>
          <p:sp>
            <p:nvSpPr>
              <p:cNvPr id="251" name=""/>
              <p:cNvSpPr/>
              <p:nvPr/>
            </p:nvSpPr>
            <p:spPr>
              <a:xfrm>
                <a:off x="5054760" y="5230800"/>
                <a:ext cx="1368360" cy="5554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54760" y="5230800"/>
                <a:ext cx="1368360" cy="5554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12880" y="5655960"/>
              <a:ext cx="784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Adresseerbaar 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111640" y="5310360"/>
            <a:ext cx="569880" cy="317160"/>
            <a:chOff x="5111640" y="5310360"/>
            <a:chExt cx="569880" cy="317160"/>
          </a:xfrm>
        </p:grpSpPr>
        <p:sp>
          <p:nvSpPr>
            <p:cNvPr id="255" name=""/>
            <p:cNvSpPr/>
            <p:nvPr/>
          </p:nvSpPr>
          <p:spPr>
            <a:xfrm>
              <a:off x="5111640" y="5310360"/>
              <a:ext cx="569880" cy="317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11640" y="5310360"/>
              <a:ext cx="569880" cy="31716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174280" y="5342040"/>
            <a:ext cx="45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Standplaats,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840" y="546876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Ligplaa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738760" y="5310360"/>
            <a:ext cx="569880" cy="317160"/>
            <a:chOff x="5738760" y="5310360"/>
            <a:chExt cx="569880" cy="317160"/>
          </a:xfrm>
        </p:grpSpPr>
        <p:grpSp>
          <p:nvGrpSpPr>
            <p:cNvPr id="260" name=""/>
            <p:cNvGrpSpPr/>
            <p:nvPr/>
          </p:nvGrpSpPr>
          <p:grpSpPr>
            <a:xfrm>
              <a:off x="5738760" y="5310360"/>
              <a:ext cx="569880" cy="317160"/>
              <a:chOff x="5738760" y="5310360"/>
              <a:chExt cx="569880" cy="317160"/>
            </a:xfrm>
          </p:grpSpPr>
          <p:sp>
            <p:nvSpPr>
              <p:cNvPr id="261" name=""/>
              <p:cNvSpPr/>
              <p:nvPr/>
            </p:nvSpPr>
            <p:spPr>
              <a:xfrm>
                <a:off x="5738760" y="5310360"/>
                <a:ext cx="569880" cy="3171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38760" y="5310360"/>
                <a:ext cx="569880" cy="3171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5854680" y="5341680"/>
              <a:ext cx="32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erblijfs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20920" y="5468760"/>
              <a:ext cx="22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738760" y="4476600"/>
            <a:ext cx="577800" cy="317520"/>
            <a:chOff x="5738760" y="4476600"/>
            <a:chExt cx="577800" cy="317520"/>
          </a:xfrm>
        </p:grpSpPr>
        <p:grpSp>
          <p:nvGrpSpPr>
            <p:cNvPr id="266" name=""/>
            <p:cNvGrpSpPr/>
            <p:nvPr/>
          </p:nvGrpSpPr>
          <p:grpSpPr>
            <a:xfrm>
              <a:off x="5738760" y="4476600"/>
              <a:ext cx="577800" cy="317520"/>
              <a:chOff x="5738760" y="4476600"/>
              <a:chExt cx="577800" cy="317520"/>
            </a:xfrm>
          </p:grpSpPr>
          <p:sp>
            <p:nvSpPr>
              <p:cNvPr id="267" name=""/>
              <p:cNvSpPr/>
              <p:nvPr/>
            </p:nvSpPr>
            <p:spPr>
              <a:xfrm>
                <a:off x="5738760" y="4476600"/>
                <a:ext cx="5778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38760" y="4476600"/>
                <a:ext cx="5778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958360" y="4572000"/>
              <a:ext cx="18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P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915840" y="3127320"/>
            <a:ext cx="1522440" cy="48744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63880" y="35164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2240" y="2771640"/>
            <a:ext cx="67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Natuurlijk pers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4" idx="0"/>
            <a:endCxn id="177" idx="4"/>
          </p:cNvCxnSpPr>
          <p:nvPr/>
        </p:nvCxnSpPr>
        <p:spPr>
          <a:xfrm flipH="1" flipV="1" rot="5400000">
            <a:off x="1323720" y="2474280"/>
            <a:ext cx="1003680" cy="295560"/>
          </a:xfrm>
          <a:prstGeom prst="bentConnector3">
            <a:avLst>
              <a:gd name="adj1" fmla="val 67707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74" idx="0"/>
            <a:endCxn id="187" idx="4"/>
          </p:cNvCxnSpPr>
          <p:nvPr/>
        </p:nvCxnSpPr>
        <p:spPr>
          <a:xfrm flipH="1" flipV="1" rot="5400000">
            <a:off x="1756440" y="2041560"/>
            <a:ext cx="1003680" cy="1161360"/>
          </a:xfrm>
          <a:prstGeom prst="bentConnector3">
            <a:avLst>
              <a:gd name="adj1" fmla="val 67707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7" idx="0"/>
            <a:endCxn id="189" idx="4"/>
          </p:cNvCxnSpPr>
          <p:nvPr/>
        </p:nvCxnSpPr>
        <p:spPr>
          <a:xfrm flipH="1" flipV="1" rot="5400000">
            <a:off x="2311920" y="2541960"/>
            <a:ext cx="1031040" cy="187920"/>
          </a:xfrm>
          <a:prstGeom prst="bentConnector3">
            <a:avLst>
              <a:gd name="adj1" fmla="val 5682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9" idx="4"/>
            <a:endCxn id="280" idx="2"/>
          </p:cNvCxnSpPr>
          <p:nvPr/>
        </p:nvCxnSpPr>
        <p:spPr>
          <a:xfrm flipH="1" rot="16200000">
            <a:off x="2237040" y="3685320"/>
            <a:ext cx="529200" cy="39600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9" idx="4"/>
            <a:endCxn id="282" idx="2"/>
          </p:cNvCxnSpPr>
          <p:nvPr/>
        </p:nvCxnSpPr>
        <p:spPr>
          <a:xfrm flipH="1" flipV="1" rot="5400000">
            <a:off x="2469240" y="3389760"/>
            <a:ext cx="64080" cy="396000"/>
          </a:xfrm>
          <a:prstGeom prst="bentConnector4">
            <a:avLst>
              <a:gd name="adj1" fmla="val -824858"/>
              <a:gd name="adj2" fmla="val 65059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0"/>
            <a:endCxn id="180" idx="4"/>
          </p:cNvCxnSpPr>
          <p:nvPr/>
        </p:nvCxnSpPr>
        <p:spPr>
          <a:xfrm flipV="1" rot="16200000">
            <a:off x="1313280" y="1730520"/>
            <a:ext cx="1026000" cy="1815480"/>
          </a:xfrm>
          <a:prstGeom prst="bentConnector3">
            <a:avLst>
              <a:gd name="adj1" fmla="val 5724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endCxn id="102" idx="4"/>
          </p:cNvCxnSpPr>
          <p:nvPr/>
        </p:nvCxnSpPr>
        <p:spPr>
          <a:xfrm flipV="1" rot="16200000">
            <a:off x="855000" y="2292840"/>
            <a:ext cx="988200" cy="658080"/>
          </a:xfrm>
          <a:prstGeom prst="bentConnector3">
            <a:avLst>
              <a:gd name="adj1" fmla="val 6814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1" idx="4"/>
            <a:endCxn id="159" idx="2"/>
          </p:cNvCxnSpPr>
          <p:nvPr/>
        </p:nvCxnSpPr>
        <p:spPr>
          <a:xfrm flipH="1" rot="16200000">
            <a:off x="2583360" y="3103200"/>
            <a:ext cx="1996200" cy="296460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86" name=""/>
          <p:cNvCxnSpPr>
            <a:stCxn id="155" idx="4"/>
            <a:endCxn id="152" idx="1"/>
          </p:cNvCxnSpPr>
          <p:nvPr/>
        </p:nvCxnSpPr>
        <p:spPr>
          <a:xfrm flipH="1" rot="16200000">
            <a:off x="6132960" y="5505120"/>
            <a:ext cx="715320" cy="126108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87" name=""/>
          <p:cNvCxnSpPr>
            <a:stCxn id="288" idx="4"/>
            <a:endCxn id="289" idx="0"/>
          </p:cNvCxnSpPr>
          <p:nvPr/>
        </p:nvCxnSpPr>
        <p:spPr>
          <a:xfrm flipV="1" rot="10800000">
            <a:off x="3093480" y="1656720"/>
            <a:ext cx="1080" cy="14472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3741840" y="1809720"/>
            <a:ext cx="5778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41840" y="1812960"/>
            <a:ext cx="577800" cy="31428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36240" y="1949400"/>
            <a:ext cx="2235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Rec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95920" y="1863720"/>
            <a:ext cx="2919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Zakelij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endCxn id="295" idx="4"/>
          </p:cNvCxnSpPr>
          <p:nvPr/>
        </p:nvCxnSpPr>
        <p:spPr>
          <a:xfrm flipH="1" flipV="1" rot="5400000">
            <a:off x="3735720" y="2340000"/>
            <a:ext cx="446760" cy="3960"/>
          </a:xfrm>
          <a:prstGeom prst="bentConnector3">
            <a:avLst>
              <a:gd name="adj1" fmla="val 4975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endCxn id="297" idx="4"/>
          </p:cNvCxnSpPr>
          <p:nvPr/>
        </p:nvCxnSpPr>
        <p:spPr>
          <a:xfrm flipV="1">
            <a:off x="1800360" y="2121840"/>
            <a:ext cx="2070720" cy="32436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grpSp>
        <p:nvGrpSpPr>
          <p:cNvPr id="298" name=""/>
          <p:cNvGrpSpPr/>
          <p:nvPr/>
        </p:nvGrpSpPr>
        <p:grpSpPr>
          <a:xfrm>
            <a:off x="7155000" y="3044880"/>
            <a:ext cx="696600" cy="214200"/>
            <a:chOff x="7155000" y="3044880"/>
            <a:chExt cx="696600" cy="214200"/>
          </a:xfrm>
        </p:grpSpPr>
        <p:sp>
          <p:nvSpPr>
            <p:cNvPr id="299" name=""/>
            <p:cNvSpPr/>
            <p:nvPr/>
          </p:nvSpPr>
          <p:spPr>
            <a:xfrm>
              <a:off x="7155000" y="3044880"/>
              <a:ext cx="696600" cy="214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55000" y="3044880"/>
              <a:ext cx="696600" cy="21420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257240" y="3098880"/>
            <a:ext cx="43668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Lijnel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48120" y="19828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48120" y="1336680"/>
            <a:ext cx="824040" cy="847800"/>
          </a:xfrm>
          <a:custGeom>
            <a:avLst/>
            <a:gdLst>
              <a:gd name="textAreaLeft" fmla="*/ 39960 w 824040"/>
              <a:gd name="textAreaRight" fmla="*/ 784080 w 824040"/>
              <a:gd name="textAreaTop" fmla="*/ 39960 h 847800"/>
              <a:gd name="textAreaBottom" fmla="*/ 807840 h 847800"/>
            </a:gdLst>
            <a:ahLst/>
            <a:rect l="textAreaLeft" t="textAreaTop" r="textAreaRight" b="textAreaBottom"/>
            <a:pathLst>
              <a:path w="21600" h="22223">
                <a:moveTo>
                  <a:pt x="3600" y="0"/>
                </a:moveTo>
                <a:arcTo wR="3600" hR="3600" stAng="16200000" swAng="-5400000"/>
                <a:lnTo>
                  <a:pt x="0" y="18623"/>
                </a:lnTo>
                <a:arcTo wR="3600" hR="3600" stAng="10800000" swAng="-5400000"/>
                <a:lnTo>
                  <a:pt x="18000" y="222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42080" y="1352520"/>
            <a:ext cx="62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Onroerende zaa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165" idx="6"/>
            <a:endCxn id="302" idx="2"/>
          </p:cNvCxnSpPr>
          <p:nvPr/>
        </p:nvCxnSpPr>
        <p:spPr>
          <a:xfrm>
            <a:off x="4316040" y="2018880"/>
            <a:ext cx="532440" cy="108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306" name=""/>
          <p:cNvCxnSpPr>
            <a:stCxn id="307" idx="6"/>
            <a:endCxn id="308" idx="2"/>
          </p:cNvCxnSpPr>
          <p:nvPr/>
        </p:nvCxnSpPr>
        <p:spPr>
          <a:xfrm>
            <a:off x="5668920" y="1812960"/>
            <a:ext cx="1456560" cy="4147200"/>
          </a:xfrm>
          <a:prstGeom prst="bentConnector3">
            <a:avLst>
              <a:gd name="adj1" fmla="val 77206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309" name=""/>
          <p:cNvCxnSpPr>
            <a:stCxn id="103" idx="6"/>
            <a:endCxn id="310" idx="0"/>
          </p:cNvCxnSpPr>
          <p:nvPr/>
        </p:nvCxnSpPr>
        <p:spPr>
          <a:xfrm>
            <a:off x="5670360" y="1946160"/>
            <a:ext cx="695520" cy="328680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4879800" y="1479600"/>
            <a:ext cx="744840" cy="244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18320" y="20970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95760" y="19558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79800" y="1905120"/>
            <a:ext cx="744840" cy="176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75200" y="1501920"/>
            <a:ext cx="535320" cy="202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Apparte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rec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155000" y="2673360"/>
            <a:ext cx="696600" cy="317520"/>
            <a:chOff x="7155000" y="2673360"/>
            <a:chExt cx="696600" cy="317520"/>
          </a:xfrm>
        </p:grpSpPr>
        <p:grpSp>
          <p:nvGrpSpPr>
            <p:cNvPr id="317" name=""/>
            <p:cNvGrpSpPr/>
            <p:nvPr/>
          </p:nvGrpSpPr>
          <p:grpSpPr>
            <a:xfrm>
              <a:off x="7155000" y="2673360"/>
              <a:ext cx="696600" cy="317520"/>
              <a:chOff x="7155000" y="2673360"/>
              <a:chExt cx="696600" cy="317520"/>
            </a:xfrm>
          </p:grpSpPr>
          <p:sp>
            <p:nvSpPr>
              <p:cNvPr id="318" name=""/>
              <p:cNvSpPr/>
              <p:nvPr/>
            </p:nvSpPr>
            <p:spPr>
              <a:xfrm>
                <a:off x="7155000" y="2673360"/>
                <a:ext cx="6966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55000" y="2673360"/>
                <a:ext cx="6966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288200" y="2682720"/>
              <a:ext cx="4842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Grootschal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97280" y="2878200"/>
              <a:ext cx="2372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85320" y="2781360"/>
              <a:ext cx="4762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topografisc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641600" y="312408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66920" y="354816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43840" y="201456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72080" y="1762200"/>
            <a:ext cx="9684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"/>
          <p:cNvCxnSpPr>
            <a:stCxn id="170" idx="4"/>
            <a:endCxn id="169" idx="0"/>
          </p:cNvCxnSpPr>
          <p:nvPr/>
        </p:nvCxnSpPr>
        <p:spPr>
          <a:xfrm flipV="1" rot="10800000">
            <a:off x="6143040" y="4789080"/>
            <a:ext cx="1080" cy="51840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5064120" y="55468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97120" y="315108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191280" y="4665600"/>
            <a:ext cx="114840" cy="114840"/>
            <a:chOff x="6191280" y="4665600"/>
            <a:chExt cx="114840" cy="114840"/>
          </a:xfrm>
        </p:grpSpPr>
        <p:sp>
          <p:nvSpPr>
            <p:cNvPr id="326" name=""/>
            <p:cNvSpPr/>
            <p:nvPr/>
          </p:nvSpPr>
          <p:spPr>
            <a:xfrm>
              <a:off x="6191280" y="46656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21520" y="46656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6239160" y="46652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570800" y="4986360"/>
            <a:ext cx="114840" cy="114840"/>
            <a:chOff x="7570800" y="4986360"/>
            <a:chExt cx="114840" cy="114840"/>
          </a:xfrm>
        </p:grpSpPr>
        <p:sp>
          <p:nvSpPr>
            <p:cNvPr id="330" name=""/>
            <p:cNvSpPr/>
            <p:nvPr/>
          </p:nvSpPr>
          <p:spPr>
            <a:xfrm>
              <a:off x="7570800" y="49863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1040" y="49863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6200000">
              <a:off x="7618680" y="49860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181560" y="5500800"/>
            <a:ext cx="114840" cy="114840"/>
            <a:chOff x="6181560" y="5500800"/>
            <a:chExt cx="114840" cy="114840"/>
          </a:xfrm>
        </p:grpSpPr>
        <p:sp>
          <p:nvSpPr>
            <p:cNvPr id="334" name=""/>
            <p:cNvSpPr/>
            <p:nvPr/>
          </p:nvSpPr>
          <p:spPr>
            <a:xfrm>
              <a:off x="6181560" y="55008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11800" y="55008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6229440" y="55004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879800" y="1725480"/>
            <a:ext cx="744840" cy="176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553000" y="5500800"/>
            <a:ext cx="114840" cy="114840"/>
            <a:chOff x="5553000" y="5500800"/>
            <a:chExt cx="114840" cy="114840"/>
          </a:xfrm>
        </p:grpSpPr>
        <p:sp>
          <p:nvSpPr>
            <p:cNvPr id="339" name=""/>
            <p:cNvSpPr/>
            <p:nvPr/>
          </p:nvSpPr>
          <p:spPr>
            <a:xfrm>
              <a:off x="5553000" y="55008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83240" y="55008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5600880" y="55004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500800" y="1957320"/>
            <a:ext cx="114840" cy="114840"/>
            <a:chOff x="5500800" y="1957320"/>
            <a:chExt cx="114840" cy="114840"/>
          </a:xfrm>
        </p:grpSpPr>
        <p:sp>
          <p:nvSpPr>
            <p:cNvPr id="343" name=""/>
            <p:cNvSpPr/>
            <p:nvPr/>
          </p:nvSpPr>
          <p:spPr>
            <a:xfrm>
              <a:off x="5500800" y="195732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31040" y="19573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548680" y="195696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724880" y="3990960"/>
            <a:ext cx="114840" cy="114840"/>
            <a:chOff x="7724880" y="3990960"/>
            <a:chExt cx="114840" cy="114840"/>
          </a:xfrm>
        </p:grpSpPr>
        <p:sp>
          <p:nvSpPr>
            <p:cNvPr id="347" name=""/>
            <p:cNvSpPr/>
            <p:nvPr/>
          </p:nvSpPr>
          <p:spPr>
            <a:xfrm>
              <a:off x="7724880" y="39909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55120" y="39909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7772760" y="39906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719840" y="3129120"/>
            <a:ext cx="114840" cy="114480"/>
            <a:chOff x="7719840" y="3129120"/>
            <a:chExt cx="114840" cy="114480"/>
          </a:xfrm>
        </p:grpSpPr>
        <p:sp>
          <p:nvSpPr>
            <p:cNvPr id="351" name=""/>
            <p:cNvSpPr/>
            <p:nvPr/>
          </p:nvSpPr>
          <p:spPr>
            <a:xfrm>
              <a:off x="7719840" y="3129120"/>
              <a:ext cx="11484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50080" y="3129120"/>
              <a:ext cx="23400" cy="1144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767720" y="31284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719840" y="2859120"/>
            <a:ext cx="114840" cy="114840"/>
            <a:chOff x="7719840" y="2859120"/>
            <a:chExt cx="114840" cy="114840"/>
          </a:xfrm>
        </p:grpSpPr>
        <p:sp>
          <p:nvSpPr>
            <p:cNvPr id="355" name=""/>
            <p:cNvSpPr/>
            <p:nvPr/>
          </p:nvSpPr>
          <p:spPr>
            <a:xfrm>
              <a:off x="7719840" y="285912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50080" y="28591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7767720" y="285876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704000" y="1996920"/>
            <a:ext cx="114840" cy="114840"/>
            <a:chOff x="7704000" y="1996920"/>
            <a:chExt cx="114840" cy="114840"/>
          </a:xfrm>
        </p:grpSpPr>
        <p:sp>
          <p:nvSpPr>
            <p:cNvPr id="359" name=""/>
            <p:cNvSpPr/>
            <p:nvPr/>
          </p:nvSpPr>
          <p:spPr>
            <a:xfrm>
              <a:off x="7704000" y="199692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34240" y="19969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200000">
              <a:off x="7751880" y="199656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670120" y="4110120"/>
            <a:ext cx="747720" cy="396720"/>
            <a:chOff x="2670120" y="4110120"/>
            <a:chExt cx="747720" cy="396720"/>
          </a:xfrm>
        </p:grpSpPr>
        <p:grpSp>
          <p:nvGrpSpPr>
            <p:cNvPr id="363" name=""/>
            <p:cNvGrpSpPr/>
            <p:nvPr/>
          </p:nvGrpSpPr>
          <p:grpSpPr>
            <a:xfrm>
              <a:off x="2670120" y="4110120"/>
              <a:ext cx="747720" cy="396720"/>
              <a:chOff x="2670120" y="4110120"/>
              <a:chExt cx="747720" cy="396720"/>
            </a:xfrm>
          </p:grpSpPr>
          <p:sp>
            <p:nvSpPr>
              <p:cNvPr id="364" name=""/>
              <p:cNvSpPr/>
              <p:nvPr/>
            </p:nvSpPr>
            <p:spPr>
              <a:xfrm>
                <a:off x="2670120" y="4110120"/>
                <a:ext cx="747720" cy="3967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70120" y="4110120"/>
                <a:ext cx="747720" cy="3967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726280" y="4306680"/>
              <a:ext cx="63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Maatschappelijk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87560" y="4379760"/>
              <a:ext cx="31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activitei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94680" y="4154400"/>
              <a:ext cx="49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ndernem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7143840" y="19191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24760" y="59230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57480" y="180180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57480" y="15858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68680" y="180648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32480" y="1967040"/>
            <a:ext cx="29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verb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3640" y="1871640"/>
            <a:ext cx="23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97280" y="1397160"/>
            <a:ext cx="503280" cy="260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03840" y="1519200"/>
            <a:ext cx="33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3560" y="1424160"/>
            <a:ext cx="189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L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25800" y="411624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25800" y="3519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4"/>
            <a:endCxn id="376" idx="0"/>
          </p:cNvCxnSpPr>
          <p:nvPr/>
        </p:nvCxnSpPr>
        <p:spPr>
          <a:xfrm flipV="1" rot="10800000">
            <a:off x="3061440" y="3590640"/>
            <a:ext cx="1080" cy="5259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2698920" y="41115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98920" y="3519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97960" y="1771560"/>
            <a:ext cx="28152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Perce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19400" y="1949400"/>
            <a:ext cx="57384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Leidingnetwer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504040" y="1779480"/>
            <a:ext cx="114480" cy="114840"/>
            <a:chOff x="5504040" y="1779480"/>
            <a:chExt cx="114480" cy="114840"/>
          </a:xfrm>
        </p:grpSpPr>
        <p:sp>
          <p:nvSpPr>
            <p:cNvPr id="382" name=""/>
            <p:cNvSpPr/>
            <p:nvPr/>
          </p:nvSpPr>
          <p:spPr>
            <a:xfrm>
              <a:off x="5504040" y="1779480"/>
              <a:ext cx="11448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34280" y="177948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5551560" y="1779120"/>
              <a:ext cx="19080" cy="1144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726000" y="2817720"/>
            <a:ext cx="2112840" cy="873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81360" y="2784600"/>
            <a:ext cx="2098800" cy="871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85120" y="2798640"/>
            <a:ext cx="2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O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80120" y="33940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10040" y="314964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11840" y="3154320"/>
            <a:ext cx="69696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42160" y="3270240"/>
            <a:ext cx="43668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WOZ 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93" idx="0"/>
          </p:cNvCxnSpPr>
          <p:nvPr/>
        </p:nvCxnSpPr>
        <p:spPr>
          <a:xfrm flipV="1" rot="16200000">
            <a:off x="3322440" y="2606040"/>
            <a:ext cx="707040" cy="389520"/>
          </a:xfrm>
          <a:prstGeom prst="bentConnector3">
            <a:avLst>
              <a:gd name="adj1" fmla="val 100407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394" name=""/>
          <p:cNvCxnSpPr>
            <a:stCxn id="390" idx="3"/>
            <a:endCxn id="152" idx="1"/>
          </p:cNvCxnSpPr>
          <p:nvPr/>
        </p:nvCxnSpPr>
        <p:spPr>
          <a:xfrm>
            <a:off x="5608800" y="3312720"/>
            <a:ext cx="1513440" cy="3180600"/>
          </a:xfrm>
          <a:prstGeom prst="bentConnector3">
            <a:avLst>
              <a:gd name="adj1" fmla="val 4994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5851080" y="3336840"/>
            <a:ext cx="10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7" idx="4"/>
            <a:endCxn id="159" idx="2"/>
          </p:cNvCxnSpPr>
          <p:nvPr/>
        </p:nvCxnSpPr>
        <p:spPr>
          <a:xfrm flipH="1" rot="16200000">
            <a:off x="3952800" y="4471560"/>
            <a:ext cx="2115360" cy="10872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5014440" y="371160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11840" y="336708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endCxn id="400" idx="0"/>
          </p:cNvCxnSpPr>
          <p:nvPr/>
        </p:nvCxnSpPr>
        <p:spPr>
          <a:xfrm>
            <a:off x="2652480" y="2565000"/>
            <a:ext cx="1307160" cy="58644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5079960" y="315108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72000" y="317196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303" idx="2"/>
            <a:endCxn id="390" idx="0"/>
          </p:cNvCxnSpPr>
          <p:nvPr/>
        </p:nvCxnSpPr>
        <p:spPr>
          <a:xfrm flipV="1" rot="10800000">
            <a:off x="5260320" y="2184120"/>
            <a:ext cx="1080" cy="97056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94520" y="2698920"/>
            <a:ext cx="13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OZ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>
            <a:stCxn id="406" idx="6"/>
            <a:endCxn id="407" idx="3"/>
          </p:cNvCxnSpPr>
          <p:nvPr/>
        </p:nvCxnSpPr>
        <p:spPr>
          <a:xfrm>
            <a:off x="4311720" y="2081160"/>
            <a:ext cx="2160" cy="1231200"/>
          </a:xfrm>
          <a:prstGeom prst="bentConnector3">
            <a:avLst>
              <a:gd name="adj1" fmla="val 14500000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5348160" y="336708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22800" y="203040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03880" y="331776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87680" y="32227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8" idx="4"/>
            <a:endCxn id="268" idx="0"/>
          </p:cNvCxnSpPr>
          <p:nvPr/>
        </p:nvCxnSpPr>
        <p:spPr>
          <a:xfrm flipH="1" rot="16200000">
            <a:off x="5206320" y="3654720"/>
            <a:ext cx="1008720" cy="635760"/>
          </a:xfrm>
          <a:prstGeom prst="bentConnector3">
            <a:avLst>
              <a:gd name="adj1" fmla="val 4991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5432040" y="371304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73800" y="3341520"/>
            <a:ext cx="114840" cy="114840"/>
            <a:chOff x="5473800" y="3341520"/>
            <a:chExt cx="114840" cy="114840"/>
          </a:xfrm>
        </p:grpSpPr>
        <p:sp>
          <p:nvSpPr>
            <p:cNvPr id="414" name=""/>
            <p:cNvSpPr/>
            <p:nvPr/>
          </p:nvSpPr>
          <p:spPr>
            <a:xfrm>
              <a:off x="5473800" y="334152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04040" y="33415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5521680" y="334116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238640" y="33228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94120" y="33894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27520" y="33894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35360" y="3149640"/>
            <a:ext cx="5778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35360" y="3152880"/>
            <a:ext cx="57780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93040" y="3267000"/>
            <a:ext cx="26604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Bela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94120" y="3208320"/>
            <a:ext cx="360" cy="277920"/>
          </a:xfrm>
          <a:custGeom>
            <a:avLst/>
            <a:gdLst/>
            <a:ahLst/>
            <a:rect l="l" t="t" r="r" b="b"/>
            <a:pathLst>
              <a:path w="21600" h="8348400">
                <a:moveTo>
                  <a:pt x="3600" y="0"/>
                </a:moveTo>
                <a:arcTo wR="3600" hR="3600" stAng="16200000" swAng="-5400000"/>
                <a:lnTo>
                  <a:pt x="0" y="8344800"/>
                </a:lnTo>
                <a:arcTo wR="3600" hR="3600" stAng="10800000" swAng="-5400000"/>
                <a:lnTo>
                  <a:pt x="18000" y="8348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16320" y="33703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"/>
          <p:cNvCxnSpPr>
            <a:stCxn id="425" idx="6"/>
            <a:endCxn id="397" idx="2"/>
          </p:cNvCxnSpPr>
          <p:nvPr/>
        </p:nvCxnSpPr>
        <p:spPr>
          <a:xfrm>
            <a:off x="4311360" y="3417480"/>
            <a:ext cx="600840" cy="108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4222800" y="336708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14640" y="315108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25720" y="31543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16440" y="201780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25720" y="202104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88080" y="268452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16280" y="267804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29520" y="52322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/>
          <p:nvPr/>
        </p:nvCxnSpPr>
        <p:spPr>
          <a:xfrm flipH="1" flipV="1" rot="5400000">
            <a:off x="2826000" y="2021040"/>
            <a:ext cx="1032480" cy="1227960"/>
          </a:xfrm>
          <a:prstGeom prst="bentConnector3">
            <a:avLst>
              <a:gd name="adj1" fmla="val 5688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7" idx="1"/>
            <a:endCxn id="365" idx="3"/>
          </p:cNvCxnSpPr>
          <p:nvPr/>
        </p:nvCxnSpPr>
        <p:spPr>
          <a:xfrm flipV="1" rot="10800000">
            <a:off x="3417840" y="3310560"/>
            <a:ext cx="317880" cy="997560"/>
          </a:xfrm>
          <a:prstGeom prst="bentConnector3">
            <a:avLst>
              <a:gd name="adj1" fmla="val 5000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53D8-1235-41C7-8F82-D2F2AC8D06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5280" y="765000"/>
            <a:ext cx="6621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4b0055"/>
                </a:solidFill>
                <a:latin typeface="Arial"/>
                <a:ea typeface="Arial"/>
              </a:rPr>
              <a:t>Stelsel van gemeentelijke basisgegev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181240" y="1557360"/>
            <a:ext cx="4578480" cy="530064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0" y="1125360"/>
            <a:ext cx="9144000" cy="5732640"/>
            <a:chOff x="0" y="1125360"/>
            <a:chExt cx="9144000" cy="5732640"/>
          </a:xfrm>
        </p:grpSpPr>
        <p:sp>
          <p:nvSpPr>
            <p:cNvPr id="433" name=""/>
            <p:cNvSpPr/>
            <p:nvPr/>
          </p:nvSpPr>
          <p:spPr>
            <a:xfrm>
              <a:off x="0" y="1125360"/>
              <a:ext cx="9144000" cy="57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4" name=""/>
            <p:cNvGraphicFramePr/>
            <p:nvPr/>
          </p:nvGraphicFramePr>
          <p:xfrm>
            <a:off x="468360" y="1197000"/>
            <a:ext cx="7840440" cy="566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360" y="1197000"/>
                      <a:ext cx="7840440" cy="56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8E44-F9D9-4B95-92B1-0CA2976F4FD1}" type="slidenum">
              <a:t>8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254160" y="1117440"/>
            <a:ext cx="7910280" cy="5664240"/>
            <a:chOff x="254160" y="1117440"/>
            <a:chExt cx="7910280" cy="5664240"/>
          </a:xfrm>
        </p:grpSpPr>
        <p:sp>
          <p:nvSpPr>
            <p:cNvPr id="437" name=""/>
            <p:cNvSpPr/>
            <p:nvPr/>
          </p:nvSpPr>
          <p:spPr>
            <a:xfrm>
              <a:off x="984240" y="20574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99080" y="190980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1960" y="1338120"/>
              <a:ext cx="970200" cy="97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11640" y="424800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98920" y="375444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03240" y="3713040"/>
              <a:ext cx="118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Kv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1360" y="2629080"/>
              <a:ext cx="2873160" cy="1185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2640" y="2754360"/>
              <a:ext cx="1727280" cy="9349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51280" y="1117440"/>
              <a:ext cx="3413160" cy="4759560"/>
            </a:xfrm>
            <a:custGeom>
              <a:avLst/>
              <a:gdLst>
                <a:gd name="textAreaLeft" fmla="*/ 166320 w 3413160"/>
                <a:gd name="textAreaRight" fmla="*/ 3246840 w 3413160"/>
                <a:gd name="textAreaTop" fmla="*/ 166320 h 4759560"/>
                <a:gd name="textAreaBottom" fmla="*/ 4593240 h 4759560"/>
              </a:gdLst>
              <a:ahLst/>
              <a:rect l="textAreaLeft" t="textAreaTop" r="textAreaRight" b="textAreaBottom"/>
              <a:pathLst>
                <a:path w="21600" h="30120">
                  <a:moveTo>
                    <a:pt x="3600" y="0"/>
                  </a:moveTo>
                  <a:arcTo wR="3600" hR="3600" stAng="16200000" swAng="-5400000"/>
                  <a:lnTo>
                    <a:pt x="0" y="26520"/>
                  </a:lnTo>
                  <a:arcTo wR="3600" hR="3600" stAng="10800000" swAng="-5400000"/>
                  <a:lnTo>
                    <a:pt x="18000" y="301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3400" y="1216080"/>
              <a:ext cx="614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Ruimtelijk 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43760" y="4419720"/>
              <a:ext cx="974880" cy="2361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12080" y="4397400"/>
              <a:ext cx="974520" cy="2359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2080" y="4395960"/>
              <a:ext cx="974520" cy="23605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02440" y="444816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2840" y="2638440"/>
              <a:ext cx="30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Pers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47800" y="2894040"/>
              <a:ext cx="735120" cy="831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19360" y="2874960"/>
              <a:ext cx="734760" cy="8319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19360" y="2874960"/>
              <a:ext cx="734760" cy="831960"/>
            </a:xfrm>
            <a:prstGeom prst="rect">
              <a:avLst/>
            </a:prstGeom>
            <a:solidFill>
              <a:srgbClr val="99ff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99800" y="287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G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46360" y="2900520"/>
              <a:ext cx="882720" cy="243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06760" y="2874960"/>
              <a:ext cx="882720" cy="2440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06760" y="2874960"/>
              <a:ext cx="882720" cy="24400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19160" y="287820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NH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29200" y="4421160"/>
              <a:ext cx="1484280" cy="1468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97520" y="4397400"/>
              <a:ext cx="1482480" cy="146844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97520" y="4397400"/>
              <a:ext cx="1482480" cy="14684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73720" y="452448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G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7120080" y="4797360"/>
              <a:ext cx="576000" cy="317520"/>
              <a:chOff x="7120080" y="4797360"/>
              <a:chExt cx="576000" cy="317520"/>
            </a:xfrm>
          </p:grpSpPr>
          <p:sp>
            <p:nvSpPr>
              <p:cNvPr id="465" name=""/>
              <p:cNvSpPr/>
              <p:nvPr/>
            </p:nvSpPr>
            <p:spPr>
              <a:xfrm>
                <a:off x="7120080" y="4797360"/>
                <a:ext cx="5760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20080" y="4797360"/>
                <a:ext cx="5760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7184880" y="4892760"/>
              <a:ext cx="43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Woonplaa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18080" y="1344600"/>
              <a:ext cx="2127240" cy="959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84600" y="1311120"/>
              <a:ext cx="2111400" cy="966960"/>
            </a:xfrm>
            <a:prstGeom prst="rect">
              <a:avLst/>
            </a:prstGeom>
            <a:solidFill>
              <a:srgbClr val="66ff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91080" y="130176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27920" y="2459160"/>
              <a:ext cx="969840" cy="873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96240" y="2432160"/>
              <a:ext cx="969840" cy="871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96240" y="2432160"/>
              <a:ext cx="969840" cy="8715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07280" y="25113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GBK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2080" y="1335240"/>
              <a:ext cx="969840" cy="968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80400" y="1306440"/>
              <a:ext cx="969840" cy="968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80400" y="1306440"/>
              <a:ext cx="969840" cy="9684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93000" y="1317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39160" y="1809720"/>
              <a:ext cx="6966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39160" y="1809720"/>
              <a:ext cx="69660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44280" y="1847880"/>
              <a:ext cx="4626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Kleinschal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43920" y="1974960"/>
              <a:ext cx="41256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Geo-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64040" y="595620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IN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5" idx="2"/>
              <a:endCxn id="486" idx="0"/>
            </p:cNvCxnSpPr>
            <p:nvPr/>
          </p:nvCxnSpPr>
          <p:spPr>
            <a:xfrm>
              <a:off x="7405200" y="6194160"/>
              <a:ext cx="2520" cy="130680"/>
            </a:xfrm>
            <a:prstGeom prst="straightConnector1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487" name=""/>
            <p:cNvCxnSpPr>
              <a:stCxn id="466" idx="2"/>
              <a:endCxn id="485" idx="0"/>
            </p:cNvCxnSpPr>
            <p:nvPr/>
          </p:nvCxnSpPr>
          <p:spPr>
            <a:xfrm flipH="1">
              <a:off x="7404840" y="5114520"/>
              <a:ext cx="3960" cy="762840"/>
            </a:xfrm>
            <a:prstGeom prst="straightConnector1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488" name=""/>
            <p:cNvCxnSpPr>
              <a:stCxn id="466" idx="3"/>
              <a:endCxn id="486" idx="3"/>
            </p:cNvCxnSpPr>
            <p:nvPr/>
          </p:nvCxnSpPr>
          <p:spPr>
            <a:xfrm flipH="1">
              <a:off x="7690680" y="4955760"/>
              <a:ext cx="5400" cy="1537560"/>
            </a:xfrm>
            <a:prstGeom prst="bentConnector3">
              <a:avLst>
                <a:gd name="adj1" fmla="val -4800000"/>
              </a:avLst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89" name=""/>
            <p:cNvSpPr/>
            <p:nvPr/>
          </p:nvSpPr>
          <p:spPr>
            <a:xfrm>
              <a:off x="5824440" y="570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34120" y="641664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92" idx="4"/>
              <a:endCxn id="493" idx="2"/>
            </p:cNvCxnSpPr>
            <p:nvPr/>
          </p:nvCxnSpPr>
          <p:spPr>
            <a:xfrm flipH="1" rot="16200000">
              <a:off x="3841560" y="4361400"/>
              <a:ext cx="442080" cy="20026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3025800" y="50706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84120" y="535932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34640" y="373536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25800" y="474804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98" idx="4"/>
              <a:endCxn id="496" idx="0"/>
            </p:cNvCxnSpPr>
            <p:nvPr/>
          </p:nvCxnSpPr>
          <p:spPr>
            <a:xfrm flipV="1" rot="10800000">
              <a:off x="3061440" y="4501800"/>
              <a:ext cx="1080" cy="2466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98" name=""/>
            <p:cNvSpPr/>
            <p:nvPr/>
          </p:nvSpPr>
          <p:spPr>
            <a:xfrm>
              <a:off x="3025800" y="44308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45120" y="19828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19200" y="420372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94200" y="230976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22760" y="230364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07040" y="530712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07040" y="471816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90680" y="197640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95000" y="1703520"/>
              <a:ext cx="115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IO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60520" y="1344600"/>
              <a:ext cx="969840" cy="965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28840" y="1306440"/>
              <a:ext cx="969840" cy="96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28840" y="1306440"/>
              <a:ext cx="969840" cy="9684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41440" y="1314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36800" y="20494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4160" y="1306440"/>
              <a:ext cx="969840" cy="961920"/>
            </a:xfrm>
            <a:prstGeom prst="rect">
              <a:avLst/>
            </a:prstGeom>
            <a:solidFill>
              <a:srgbClr val="ffcc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3520" y="1314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82720" y="20541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41480" y="233532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7680" y="234144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85880" y="1341360"/>
              <a:ext cx="970200" cy="968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54200" y="1403280"/>
              <a:ext cx="970200" cy="871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54200" y="1306440"/>
              <a:ext cx="970200" cy="968400"/>
            </a:xfrm>
            <a:prstGeom prst="rect">
              <a:avLst/>
            </a:prstGeom>
            <a:solidFill>
              <a:srgbClr val="ffcc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67160" y="131436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LA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20494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45160" y="231624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84320" y="20494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89200" y="231624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92240" y="230652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07920" y="2894040"/>
              <a:ext cx="735120" cy="831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87400" y="2879640"/>
              <a:ext cx="735120" cy="8319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85960" y="2874960"/>
              <a:ext cx="734760" cy="8319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16360" y="2870280"/>
              <a:ext cx="234360" cy="168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RN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939960" y="3152880"/>
              <a:ext cx="634680" cy="436320"/>
              <a:chOff x="939960" y="3152880"/>
              <a:chExt cx="634680" cy="4363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939960" y="3152880"/>
                <a:ext cx="634680" cy="436320"/>
                <a:chOff x="939960" y="3152880"/>
                <a:chExt cx="634680" cy="4363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939960" y="3152880"/>
                  <a:ext cx="634680" cy="436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939960" y="3152880"/>
                  <a:ext cx="634680" cy="4363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1172160" y="3240000"/>
                <a:ext cx="17604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Niet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064160" y="3367080"/>
                <a:ext cx="40788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Ingezete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7040520" y="3436920"/>
              <a:ext cx="969840" cy="873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8840" y="3409920"/>
              <a:ext cx="969840" cy="871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8840" y="3409920"/>
              <a:ext cx="969840" cy="8715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9880" y="348948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DI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167600" y="3816360"/>
              <a:ext cx="696960" cy="317520"/>
              <a:chOff x="7167600" y="3816360"/>
              <a:chExt cx="696960" cy="317520"/>
            </a:xfrm>
          </p:grpSpPr>
          <p:sp>
            <p:nvSpPr>
              <p:cNvPr id="541" name=""/>
              <p:cNvSpPr/>
              <p:nvPr/>
            </p:nvSpPr>
            <p:spPr>
              <a:xfrm>
                <a:off x="7167600" y="3816360"/>
                <a:ext cx="69696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67600" y="3816360"/>
                <a:ext cx="69696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7267680" y="3867120"/>
              <a:ext cx="52992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ndergrond”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412920" y="1805040"/>
              <a:ext cx="696600" cy="323640"/>
              <a:chOff x="412920" y="1805040"/>
              <a:chExt cx="696600" cy="32364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412920" y="1805040"/>
                <a:ext cx="696600" cy="323640"/>
                <a:chOff x="412920" y="1805040"/>
                <a:chExt cx="696600" cy="3236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12920" y="1805040"/>
                  <a:ext cx="696600" cy="323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2920" y="1805040"/>
                  <a:ext cx="696600" cy="32364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495720" y="1833480"/>
                <a:ext cx="49320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Gekenteken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96080" y="1958760"/>
                <a:ext cx="32112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Voertui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784520" y="3152880"/>
              <a:ext cx="634680" cy="436320"/>
              <a:chOff x="1784520" y="3152880"/>
              <a:chExt cx="634680" cy="43632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1784520" y="3152880"/>
                <a:ext cx="634680" cy="436320"/>
                <a:chOff x="1784520" y="3152880"/>
                <a:chExt cx="634680" cy="436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784520" y="3152880"/>
                  <a:ext cx="634680" cy="436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784520" y="3152880"/>
                  <a:ext cx="634680" cy="4363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1905480" y="3244680"/>
                <a:ext cx="398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Ingezete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2670120" y="3152880"/>
              <a:ext cx="747720" cy="436320"/>
              <a:chOff x="2670120" y="3152880"/>
              <a:chExt cx="747720" cy="436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2670120" y="3152880"/>
                <a:ext cx="747720" cy="436320"/>
                <a:chOff x="2670120" y="3152880"/>
                <a:chExt cx="747720" cy="4363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2670120" y="3152880"/>
                  <a:ext cx="747720" cy="436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670120" y="3152880"/>
                  <a:ext cx="747720" cy="4363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2878200" y="3181320"/>
                <a:ext cx="354240" cy="345240"/>
                <a:chOff x="2878200" y="3181320"/>
                <a:chExt cx="354240" cy="34524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2989080" y="3181320"/>
                  <a:ext cx="14544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600" spc="-1" strike="noStrike">
                      <a:solidFill>
                        <a:srgbClr val="000000"/>
                      </a:solidFill>
                      <a:latin typeface="Arial"/>
                    </a:rPr>
                    <a:t>Niet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878200" y="3308040"/>
                  <a:ext cx="35424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600" spc="-1" strike="noStrike">
                      <a:solidFill>
                        <a:srgbClr val="000000"/>
                      </a:solidFill>
                      <a:latin typeface="Arial"/>
                    </a:rPr>
                    <a:t>Natuurlijk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927160" y="3434760"/>
                  <a:ext cx="30384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600" spc="-1" strike="noStrike">
                      <a:solidFill>
                        <a:srgbClr val="000000"/>
                      </a:solidFill>
                      <a:latin typeface="Arial"/>
                    </a:rPr>
                    <a:t>persoo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2670120" y="4748040"/>
              <a:ext cx="765360" cy="397080"/>
              <a:chOff x="2670120" y="4748040"/>
              <a:chExt cx="765360" cy="3970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2670120" y="4748040"/>
                <a:ext cx="765360" cy="397080"/>
                <a:chOff x="2670120" y="4748040"/>
                <a:chExt cx="765360" cy="3970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670120" y="4748040"/>
                  <a:ext cx="765360" cy="397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70120" y="4748040"/>
                  <a:ext cx="765360" cy="39708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2907360" y="4895640"/>
                <a:ext cx="346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Vestig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1587600" y="180972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587600" y="1809720"/>
              <a:ext cx="696960" cy="317520"/>
              <a:chOff x="1587600" y="1809720"/>
              <a:chExt cx="696960" cy="317520"/>
            </a:xfrm>
          </p:grpSpPr>
          <p:sp>
            <p:nvSpPr>
              <p:cNvPr id="570" name=""/>
              <p:cNvSpPr/>
              <p:nvPr/>
            </p:nvSpPr>
            <p:spPr>
              <a:xfrm>
                <a:off x="1587600" y="1809720"/>
                <a:ext cx="69696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774800" y="1917720"/>
                <a:ext cx="32544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Inkome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2668680" y="180324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120080" y="5877000"/>
              <a:ext cx="571320" cy="317160"/>
              <a:chOff x="7120080" y="5877000"/>
              <a:chExt cx="571320" cy="3171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7120080" y="5877000"/>
                <a:ext cx="571320" cy="317160"/>
                <a:chOff x="7120080" y="5877000"/>
                <a:chExt cx="571320" cy="3171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7120080" y="5877000"/>
                  <a:ext cx="571320" cy="317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120080" y="5877000"/>
                  <a:ext cx="571320" cy="31716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7243920" y="5918040"/>
                <a:ext cx="3589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Openba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03680" y="6045120"/>
                <a:ext cx="234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ruimt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7121520" y="6324480"/>
              <a:ext cx="569880" cy="336600"/>
              <a:chOff x="7121520" y="6324480"/>
              <a:chExt cx="569880" cy="3366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7121520" y="6324480"/>
                <a:ext cx="569880" cy="336600"/>
                <a:chOff x="7121520" y="6324480"/>
                <a:chExt cx="569880" cy="3366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121520" y="6324480"/>
                  <a:ext cx="569880" cy="336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121520" y="6324480"/>
                  <a:ext cx="569880" cy="33660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7251120" y="6395040"/>
                <a:ext cx="334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Nummer-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31680" y="6493320"/>
                <a:ext cx="412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aanduid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5054760" y="5230800"/>
              <a:ext cx="1368360" cy="555480"/>
              <a:chOff x="5054760" y="5230800"/>
              <a:chExt cx="1368360" cy="55548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5054760" y="5230800"/>
                <a:ext cx="1368360" cy="555480"/>
                <a:chOff x="5054760" y="5230800"/>
                <a:chExt cx="1368360" cy="5554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054760" y="5230800"/>
                  <a:ext cx="1368360" cy="555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054760" y="5230800"/>
                  <a:ext cx="1368360" cy="55548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5312880" y="5655960"/>
                <a:ext cx="784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Adresseerbaar objec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5111640" y="5310360"/>
              <a:ext cx="569880" cy="317160"/>
              <a:chOff x="5111640" y="5310360"/>
              <a:chExt cx="569880" cy="317160"/>
            </a:xfrm>
          </p:grpSpPr>
          <p:sp>
            <p:nvSpPr>
              <p:cNvPr id="589" name=""/>
              <p:cNvSpPr/>
              <p:nvPr/>
            </p:nvSpPr>
            <p:spPr>
              <a:xfrm>
                <a:off x="5111640" y="5310360"/>
                <a:ext cx="569880" cy="3171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111640" y="5310360"/>
                <a:ext cx="569880" cy="3171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5174280" y="5342040"/>
              <a:ext cx="45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Standplaats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81840" y="5468760"/>
              <a:ext cx="33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Ligplaa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5738760" y="5310360"/>
              <a:ext cx="569880" cy="317160"/>
              <a:chOff x="5738760" y="5310360"/>
              <a:chExt cx="569880" cy="31716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5738760" y="5310360"/>
                <a:ext cx="569880" cy="317160"/>
                <a:chOff x="5738760" y="5310360"/>
                <a:chExt cx="569880" cy="3171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5738760" y="5310360"/>
                  <a:ext cx="569880" cy="317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738760" y="5310360"/>
                  <a:ext cx="569880" cy="31716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5854680" y="5341680"/>
                <a:ext cx="3283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Verblijfs-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0920" y="5468760"/>
                <a:ext cx="22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5738760" y="4476600"/>
              <a:ext cx="577800" cy="317520"/>
              <a:chOff x="5738760" y="4476600"/>
              <a:chExt cx="577800" cy="3175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738760" y="4476600"/>
                <a:ext cx="577800" cy="317520"/>
                <a:chOff x="5738760" y="4476600"/>
                <a:chExt cx="577800" cy="31752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738760" y="4476600"/>
                  <a:ext cx="577800" cy="31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738760" y="4476600"/>
                  <a:ext cx="577800" cy="3175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5958360" y="4572000"/>
                <a:ext cx="188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Pan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915840" y="3127320"/>
              <a:ext cx="1522440" cy="48744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63880" y="351648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12240" y="2771640"/>
              <a:ext cx="67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Natuurlijk pers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7" name=""/>
            <p:cNvCxnSpPr>
              <a:stCxn id="608" idx="0"/>
              <a:endCxn id="511" idx="4"/>
            </p:cNvCxnSpPr>
            <p:nvPr/>
          </p:nvCxnSpPr>
          <p:spPr>
            <a:xfrm flipH="1" flipV="1" rot="5400000">
              <a:off x="1323720" y="2474280"/>
              <a:ext cx="1003680" cy="295560"/>
            </a:xfrm>
            <a:prstGeom prst="bentConnector3">
              <a:avLst>
                <a:gd name="adj1" fmla="val 67707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09" name=""/>
            <p:cNvCxnSpPr>
              <a:stCxn id="608" idx="0"/>
              <a:endCxn id="521" idx="4"/>
            </p:cNvCxnSpPr>
            <p:nvPr/>
          </p:nvCxnSpPr>
          <p:spPr>
            <a:xfrm flipH="1" flipV="1" rot="5400000">
              <a:off x="1756440" y="2041560"/>
              <a:ext cx="1003680" cy="1161360"/>
            </a:xfrm>
            <a:prstGeom prst="bentConnector3">
              <a:avLst>
                <a:gd name="adj1" fmla="val 67707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0" name=""/>
            <p:cNvCxnSpPr>
              <a:stCxn id="611" idx="0"/>
              <a:endCxn id="523" idx="4"/>
            </p:cNvCxnSpPr>
            <p:nvPr/>
          </p:nvCxnSpPr>
          <p:spPr>
            <a:xfrm flipH="1" flipV="1" rot="5400000">
              <a:off x="2311920" y="2541960"/>
              <a:ext cx="1031040" cy="187920"/>
            </a:xfrm>
            <a:prstGeom prst="bentConnector3">
              <a:avLst>
                <a:gd name="adj1" fmla="val 5682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13" idx="4"/>
              <a:endCxn id="614" idx="2"/>
            </p:cNvCxnSpPr>
            <p:nvPr/>
          </p:nvCxnSpPr>
          <p:spPr>
            <a:xfrm flipH="1" rot="16200000">
              <a:off x="2237040" y="3685320"/>
              <a:ext cx="529200" cy="3960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5" name=""/>
            <p:cNvCxnSpPr>
              <a:stCxn id="613" idx="4"/>
              <a:endCxn id="616" idx="2"/>
            </p:cNvCxnSpPr>
            <p:nvPr/>
          </p:nvCxnSpPr>
          <p:spPr>
            <a:xfrm flipH="1" flipV="1" rot="5400000">
              <a:off x="2469240" y="3389760"/>
              <a:ext cx="64080" cy="396000"/>
            </a:xfrm>
            <a:prstGeom prst="bentConnector4">
              <a:avLst>
                <a:gd name="adj1" fmla="val -824858"/>
                <a:gd name="adj2" fmla="val 65059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11" idx="0"/>
              <a:endCxn id="514" idx="4"/>
            </p:cNvCxnSpPr>
            <p:nvPr/>
          </p:nvCxnSpPr>
          <p:spPr>
            <a:xfrm flipV="1" rot="16200000">
              <a:off x="1313280" y="1730520"/>
              <a:ext cx="1026000" cy="1815480"/>
            </a:xfrm>
            <a:prstGeom prst="bentConnector3">
              <a:avLst>
                <a:gd name="adj1" fmla="val 5724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8" name=""/>
            <p:cNvCxnSpPr>
              <a:endCxn id="437" idx="4"/>
            </p:cNvCxnSpPr>
            <p:nvPr/>
          </p:nvCxnSpPr>
          <p:spPr>
            <a:xfrm flipV="1" rot="16200000">
              <a:off x="855000" y="2292840"/>
              <a:ext cx="988200" cy="658080"/>
            </a:xfrm>
            <a:prstGeom prst="bentConnector3">
              <a:avLst>
                <a:gd name="adj1" fmla="val 6814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9" name=""/>
            <p:cNvCxnSpPr>
              <a:stCxn id="605" idx="4"/>
              <a:endCxn id="493" idx="2"/>
            </p:cNvCxnSpPr>
            <p:nvPr/>
          </p:nvCxnSpPr>
          <p:spPr>
            <a:xfrm flipH="1" rot="16200000">
              <a:off x="2583360" y="3103200"/>
              <a:ext cx="1996200" cy="29646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cxnSp>
          <p:nvCxnSpPr>
            <p:cNvPr id="620" name=""/>
            <p:cNvCxnSpPr>
              <a:stCxn id="489" idx="4"/>
              <a:endCxn id="486" idx="1"/>
            </p:cNvCxnSpPr>
            <p:nvPr/>
          </p:nvCxnSpPr>
          <p:spPr>
            <a:xfrm flipH="1" rot="16200000">
              <a:off x="6132960" y="5505120"/>
              <a:ext cx="715320" cy="12610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cxnSp>
          <p:nvCxnSpPr>
            <p:cNvPr id="621" name=""/>
            <p:cNvCxnSpPr>
              <a:stCxn id="622" idx="4"/>
              <a:endCxn id="623" idx="0"/>
            </p:cNvCxnSpPr>
            <p:nvPr/>
          </p:nvCxnSpPr>
          <p:spPr>
            <a:xfrm flipV="1" rot="10800000">
              <a:off x="3093480" y="1656720"/>
              <a:ext cx="1080" cy="1447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624" name=""/>
            <p:cNvSpPr/>
            <p:nvPr/>
          </p:nvSpPr>
          <p:spPr>
            <a:xfrm>
              <a:off x="3741840" y="1809720"/>
              <a:ext cx="5778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41840" y="1812960"/>
              <a:ext cx="577800" cy="314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36240" y="1949400"/>
              <a:ext cx="22356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Rech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95920" y="1863720"/>
              <a:ext cx="29196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Zakelij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endCxn id="629" idx="4"/>
            </p:cNvCxnSpPr>
            <p:nvPr/>
          </p:nvCxnSpPr>
          <p:spPr>
            <a:xfrm flipH="1" flipV="1" rot="5400000">
              <a:off x="3735720" y="2340000"/>
              <a:ext cx="446760" cy="3960"/>
            </a:xfrm>
            <a:prstGeom prst="bentConnector3">
              <a:avLst>
                <a:gd name="adj1" fmla="val 4975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endCxn id="631" idx="4"/>
            </p:cNvCxnSpPr>
            <p:nvPr/>
          </p:nvCxnSpPr>
          <p:spPr>
            <a:xfrm flipV="1">
              <a:off x="1800360" y="2121840"/>
              <a:ext cx="2070720" cy="32436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grpSp>
          <p:nvGrpSpPr>
            <p:cNvPr id="632" name=""/>
            <p:cNvGrpSpPr/>
            <p:nvPr/>
          </p:nvGrpSpPr>
          <p:grpSpPr>
            <a:xfrm>
              <a:off x="7155000" y="3044880"/>
              <a:ext cx="696600" cy="214200"/>
              <a:chOff x="7155000" y="3044880"/>
              <a:chExt cx="696600" cy="214200"/>
            </a:xfrm>
          </p:grpSpPr>
          <p:sp>
            <p:nvSpPr>
              <p:cNvPr id="633" name=""/>
              <p:cNvSpPr/>
              <p:nvPr/>
            </p:nvSpPr>
            <p:spPr>
              <a:xfrm>
                <a:off x="7155000" y="3044880"/>
                <a:ext cx="6966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55000" y="3044880"/>
                <a:ext cx="696600" cy="21420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7257240" y="3098880"/>
              <a:ext cx="4366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Lijnele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48120" y="19828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48120" y="1336680"/>
              <a:ext cx="824040" cy="847800"/>
            </a:xfrm>
            <a:custGeom>
              <a:avLst/>
              <a:gdLst>
                <a:gd name="textAreaLeft" fmla="*/ 39960 w 824040"/>
                <a:gd name="textAreaRight" fmla="*/ 784080 w 824040"/>
                <a:gd name="textAreaTop" fmla="*/ 39960 h 847800"/>
                <a:gd name="textAreaBottom" fmla="*/ 807840 h 847800"/>
              </a:gdLst>
              <a:ahLst/>
              <a:rect l="textAreaLeft" t="textAreaTop" r="textAreaRight" b="textAreaBottom"/>
              <a:pathLst>
                <a:path w="21600" h="22223">
                  <a:moveTo>
                    <a:pt x="3600" y="0"/>
                  </a:moveTo>
                  <a:arcTo wR="3600" hR="3600" stAng="16200000" swAng="-5400000"/>
                  <a:lnTo>
                    <a:pt x="0" y="18623"/>
                  </a:lnTo>
                  <a:arcTo wR="3600" hR="3600" stAng="10800000" swAng="-5400000"/>
                  <a:lnTo>
                    <a:pt x="18000" y="222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942080" y="1352520"/>
              <a:ext cx="622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nroerende zaa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9" name=""/>
            <p:cNvCxnSpPr>
              <a:stCxn id="499" idx="6"/>
              <a:endCxn id="636" idx="2"/>
            </p:cNvCxnSpPr>
            <p:nvPr/>
          </p:nvCxnSpPr>
          <p:spPr>
            <a:xfrm>
              <a:off x="4316040" y="2018880"/>
              <a:ext cx="532440" cy="10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640" name=""/>
            <p:cNvCxnSpPr>
              <a:stCxn id="641" idx="6"/>
              <a:endCxn id="642" idx="2"/>
            </p:cNvCxnSpPr>
            <p:nvPr/>
          </p:nvCxnSpPr>
          <p:spPr>
            <a:xfrm>
              <a:off x="5668920" y="1812960"/>
              <a:ext cx="1456560" cy="4147200"/>
            </a:xfrm>
            <a:prstGeom prst="bentConnector3">
              <a:avLst>
                <a:gd name="adj1" fmla="val 77206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cxnSp>
          <p:nvCxnSpPr>
            <p:cNvPr id="643" name=""/>
            <p:cNvCxnSpPr>
              <a:stCxn id="438" idx="6"/>
              <a:endCxn id="644" idx="0"/>
            </p:cNvCxnSpPr>
            <p:nvPr/>
          </p:nvCxnSpPr>
          <p:spPr>
            <a:xfrm>
              <a:off x="5670360" y="1946160"/>
              <a:ext cx="695520" cy="32868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645" name=""/>
            <p:cNvSpPr/>
            <p:nvPr/>
          </p:nvSpPr>
          <p:spPr>
            <a:xfrm>
              <a:off x="4879800" y="1479600"/>
              <a:ext cx="744840" cy="244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18320" y="209700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95760" y="19558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79800" y="1905120"/>
              <a:ext cx="744840" cy="176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75200" y="1501920"/>
              <a:ext cx="535320" cy="202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Appartemen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rech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7155000" y="2673360"/>
              <a:ext cx="696600" cy="317520"/>
              <a:chOff x="7155000" y="2673360"/>
              <a:chExt cx="696600" cy="31752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7155000" y="2673360"/>
                <a:ext cx="696600" cy="317520"/>
                <a:chOff x="7155000" y="2673360"/>
                <a:chExt cx="696600" cy="31752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7155000" y="2673360"/>
                  <a:ext cx="696600" cy="31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155000" y="2673360"/>
                  <a:ext cx="696600" cy="3175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7288200" y="2682720"/>
                <a:ext cx="48420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Grootschali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97280" y="2878200"/>
                <a:ext cx="23724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285320" y="2781360"/>
                <a:ext cx="47628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topografisch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641600" y="312408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66920" y="3548160"/>
              <a:ext cx="7164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43840" y="201456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72080" y="1762200"/>
              <a:ext cx="9684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504" idx="4"/>
              <a:endCxn id="503" idx="0"/>
            </p:cNvCxnSpPr>
            <p:nvPr/>
          </p:nvCxnSpPr>
          <p:spPr>
            <a:xfrm flipV="1" rot="10800000">
              <a:off x="6143040" y="4789080"/>
              <a:ext cx="1080" cy="5184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93" name=""/>
            <p:cNvSpPr/>
            <p:nvPr/>
          </p:nvSpPr>
          <p:spPr>
            <a:xfrm>
              <a:off x="5064120" y="554688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97120" y="315108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6191280" y="4665600"/>
              <a:ext cx="114840" cy="114840"/>
              <a:chOff x="6191280" y="4665600"/>
              <a:chExt cx="114840" cy="114840"/>
            </a:xfrm>
          </p:grpSpPr>
          <p:sp>
            <p:nvSpPr>
              <p:cNvPr id="660" name=""/>
              <p:cNvSpPr/>
              <p:nvPr/>
            </p:nvSpPr>
            <p:spPr>
              <a:xfrm>
                <a:off x="6191280" y="466560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21520" y="466560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200000">
                <a:off x="6239160" y="466524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570800" y="4986360"/>
              <a:ext cx="114840" cy="114840"/>
              <a:chOff x="7570800" y="4986360"/>
              <a:chExt cx="114840" cy="114840"/>
            </a:xfrm>
          </p:grpSpPr>
          <p:sp>
            <p:nvSpPr>
              <p:cNvPr id="664" name=""/>
              <p:cNvSpPr/>
              <p:nvPr/>
            </p:nvSpPr>
            <p:spPr>
              <a:xfrm>
                <a:off x="7570800" y="498636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601040" y="498636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6200000">
                <a:off x="7618680" y="498600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6181560" y="5500800"/>
              <a:ext cx="114840" cy="114840"/>
              <a:chOff x="6181560" y="5500800"/>
              <a:chExt cx="114840" cy="114840"/>
            </a:xfrm>
          </p:grpSpPr>
          <p:sp>
            <p:nvSpPr>
              <p:cNvPr id="668" name=""/>
              <p:cNvSpPr/>
              <p:nvPr/>
            </p:nvSpPr>
            <p:spPr>
              <a:xfrm>
                <a:off x="6181560" y="550080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11800" y="550080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200000">
                <a:off x="6229440" y="550044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4879800" y="1725480"/>
              <a:ext cx="744840" cy="176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5553000" y="5500800"/>
              <a:ext cx="114840" cy="114840"/>
              <a:chOff x="5553000" y="5500800"/>
              <a:chExt cx="114840" cy="114840"/>
            </a:xfrm>
          </p:grpSpPr>
          <p:sp>
            <p:nvSpPr>
              <p:cNvPr id="673" name=""/>
              <p:cNvSpPr/>
              <p:nvPr/>
            </p:nvSpPr>
            <p:spPr>
              <a:xfrm>
                <a:off x="5553000" y="550080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83240" y="550080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6200000">
                <a:off x="5600880" y="550044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5500800" y="1957320"/>
              <a:ext cx="114840" cy="114840"/>
              <a:chOff x="5500800" y="1957320"/>
              <a:chExt cx="114840" cy="114840"/>
            </a:xfrm>
          </p:grpSpPr>
          <p:sp>
            <p:nvSpPr>
              <p:cNvPr id="677" name=""/>
              <p:cNvSpPr/>
              <p:nvPr/>
            </p:nvSpPr>
            <p:spPr>
              <a:xfrm>
                <a:off x="5500800" y="195732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31040" y="195732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6200000">
                <a:off x="5548680" y="195696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7724880" y="3990960"/>
              <a:ext cx="114840" cy="114840"/>
              <a:chOff x="7724880" y="3990960"/>
              <a:chExt cx="114840" cy="114840"/>
            </a:xfrm>
          </p:grpSpPr>
          <p:sp>
            <p:nvSpPr>
              <p:cNvPr id="681" name=""/>
              <p:cNvSpPr/>
              <p:nvPr/>
            </p:nvSpPr>
            <p:spPr>
              <a:xfrm>
                <a:off x="7724880" y="399096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55120" y="399096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6200000">
                <a:off x="7772760" y="399060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7719840" y="3129120"/>
              <a:ext cx="114840" cy="114480"/>
              <a:chOff x="7719840" y="3129120"/>
              <a:chExt cx="114840" cy="114480"/>
            </a:xfrm>
          </p:grpSpPr>
          <p:sp>
            <p:nvSpPr>
              <p:cNvPr id="685" name=""/>
              <p:cNvSpPr/>
              <p:nvPr/>
            </p:nvSpPr>
            <p:spPr>
              <a:xfrm>
                <a:off x="7719840" y="3129120"/>
                <a:ext cx="114840" cy="11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50080" y="3129120"/>
                <a:ext cx="23400" cy="1144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6200000">
                <a:off x="7767720" y="312840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7719840" y="2859120"/>
              <a:ext cx="114840" cy="114840"/>
              <a:chOff x="7719840" y="2859120"/>
              <a:chExt cx="114840" cy="114840"/>
            </a:xfrm>
          </p:grpSpPr>
          <p:sp>
            <p:nvSpPr>
              <p:cNvPr id="689" name=""/>
              <p:cNvSpPr/>
              <p:nvPr/>
            </p:nvSpPr>
            <p:spPr>
              <a:xfrm>
                <a:off x="7719840" y="285912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750080" y="285912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6200000">
                <a:off x="7767720" y="285876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7704000" y="1996920"/>
              <a:ext cx="114840" cy="114840"/>
              <a:chOff x="7704000" y="1996920"/>
              <a:chExt cx="114840" cy="114840"/>
            </a:xfrm>
          </p:grpSpPr>
          <p:sp>
            <p:nvSpPr>
              <p:cNvPr id="693" name=""/>
              <p:cNvSpPr/>
              <p:nvPr/>
            </p:nvSpPr>
            <p:spPr>
              <a:xfrm>
                <a:off x="7704000" y="199692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734240" y="199692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6200000">
                <a:off x="7751880" y="199656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670120" y="4110120"/>
              <a:ext cx="747720" cy="396720"/>
              <a:chOff x="2670120" y="4110120"/>
              <a:chExt cx="747720" cy="39672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2670120" y="4110120"/>
                <a:ext cx="747720" cy="396720"/>
                <a:chOff x="2670120" y="4110120"/>
                <a:chExt cx="747720" cy="3967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2670120" y="4110120"/>
                  <a:ext cx="747720" cy="39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670120" y="4110120"/>
                  <a:ext cx="747720" cy="3967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2726280" y="4306680"/>
                <a:ext cx="6379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Maatschappelijk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887560" y="4379760"/>
                <a:ext cx="313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activitei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794680" y="4154400"/>
                <a:ext cx="498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Ondernem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7143840" y="19191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24760" y="592308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57480" y="180180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57480" y="158580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68680" y="180648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32480" y="1967040"/>
              <a:ext cx="29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erb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43640" y="1871640"/>
              <a:ext cx="23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Dien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97280" y="1397160"/>
              <a:ext cx="503280" cy="260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03840" y="1519200"/>
              <a:ext cx="33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Uitker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13560" y="1424160"/>
              <a:ext cx="18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L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025800" y="411624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25800" y="35193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2" name=""/>
            <p:cNvCxnSpPr>
              <a:stCxn id="711" idx="4"/>
              <a:endCxn id="710" idx="0"/>
            </p:cNvCxnSpPr>
            <p:nvPr/>
          </p:nvCxnSpPr>
          <p:spPr>
            <a:xfrm flipV="1" rot="10800000">
              <a:off x="3061440" y="3590640"/>
              <a:ext cx="1080" cy="525960"/>
            </a:xfrm>
            <a:prstGeom prst="bentConnector2">
              <a:avLst/>
            </a:prstGeom>
            <a:ln w="19080">
              <a:solidFill>
                <a:srgbClr val="333399"/>
              </a:solidFill>
              <a:miter/>
            </a:ln>
          </p:spPr>
        </p:cxnSp>
        <p:sp>
          <p:nvSpPr>
            <p:cNvPr id="614" name=""/>
            <p:cNvSpPr/>
            <p:nvPr/>
          </p:nvSpPr>
          <p:spPr>
            <a:xfrm>
              <a:off x="2698920" y="41115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98920" y="35193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97960" y="1771560"/>
              <a:ext cx="28152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Perce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19400" y="1949400"/>
              <a:ext cx="5738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Leidingnetwer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5504040" y="1779480"/>
              <a:ext cx="114480" cy="114840"/>
              <a:chOff x="5504040" y="1779480"/>
              <a:chExt cx="114480" cy="114840"/>
            </a:xfrm>
          </p:grpSpPr>
          <p:sp>
            <p:nvSpPr>
              <p:cNvPr id="716" name=""/>
              <p:cNvSpPr/>
              <p:nvPr/>
            </p:nvSpPr>
            <p:spPr>
              <a:xfrm>
                <a:off x="5504040" y="1779480"/>
                <a:ext cx="11448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34280" y="177948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6200000">
                <a:off x="5551560" y="1779120"/>
                <a:ext cx="19080" cy="11448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3726000" y="2817720"/>
              <a:ext cx="2112840" cy="873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81360" y="2784600"/>
              <a:ext cx="2098800" cy="871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85120" y="279864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WO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80120" y="33940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10040" y="314964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11840" y="315432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42160" y="3270240"/>
              <a:ext cx="4366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WOZ 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6" name=""/>
            <p:cNvCxnSpPr>
              <a:stCxn id="727" idx="0"/>
            </p:cNvCxnSpPr>
            <p:nvPr/>
          </p:nvCxnSpPr>
          <p:spPr>
            <a:xfrm flipV="1" rot="16200000">
              <a:off x="3322440" y="2606040"/>
              <a:ext cx="707040" cy="389520"/>
            </a:xfrm>
            <a:prstGeom prst="bentConnector3">
              <a:avLst>
                <a:gd name="adj1" fmla="val 100407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cxnSp>
          <p:nvCxnSpPr>
            <p:cNvPr id="728" name=""/>
            <p:cNvCxnSpPr>
              <a:stCxn id="724" idx="3"/>
              <a:endCxn id="486" idx="1"/>
            </p:cNvCxnSpPr>
            <p:nvPr/>
          </p:nvCxnSpPr>
          <p:spPr>
            <a:xfrm>
              <a:off x="5608800" y="3312720"/>
              <a:ext cx="1513440" cy="3180600"/>
            </a:xfrm>
            <a:prstGeom prst="bentConnector3">
              <a:avLst>
                <a:gd name="adj1" fmla="val 49940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729" name=""/>
            <p:cNvSpPr/>
            <p:nvPr/>
          </p:nvSpPr>
          <p:spPr>
            <a:xfrm>
              <a:off x="5851080" y="333684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IN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31" idx="4"/>
              <a:endCxn id="493" idx="2"/>
            </p:cNvCxnSpPr>
            <p:nvPr/>
          </p:nvCxnSpPr>
          <p:spPr>
            <a:xfrm flipH="1" rot="16200000">
              <a:off x="3952800" y="4471560"/>
              <a:ext cx="2115360" cy="1087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732" name=""/>
            <p:cNvSpPr/>
            <p:nvPr/>
          </p:nvSpPr>
          <p:spPr>
            <a:xfrm>
              <a:off x="5014440" y="371160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11840" y="336708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3" name=""/>
            <p:cNvCxnSpPr>
              <a:endCxn id="734" idx="0"/>
            </p:cNvCxnSpPr>
            <p:nvPr/>
          </p:nvCxnSpPr>
          <p:spPr>
            <a:xfrm>
              <a:off x="2652480" y="2565000"/>
              <a:ext cx="1307160" cy="58644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sp>
          <p:nvSpPr>
            <p:cNvPr id="735" name=""/>
            <p:cNvSpPr/>
            <p:nvPr/>
          </p:nvSpPr>
          <p:spPr>
            <a:xfrm>
              <a:off x="5079960" y="3151080"/>
              <a:ext cx="88920" cy="10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72000" y="317196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637" idx="2"/>
              <a:endCxn id="724" idx="0"/>
            </p:cNvCxnSpPr>
            <p:nvPr/>
          </p:nvCxnSpPr>
          <p:spPr>
            <a:xfrm flipV="1" rot="10800000">
              <a:off x="5260320" y="2184120"/>
              <a:ext cx="1080" cy="97056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sp>
          <p:nvSpPr>
            <p:cNvPr id="738" name=""/>
            <p:cNvSpPr/>
            <p:nvPr/>
          </p:nvSpPr>
          <p:spPr>
            <a:xfrm>
              <a:off x="5294520" y="2698920"/>
              <a:ext cx="13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OZ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9" name=""/>
            <p:cNvCxnSpPr>
              <a:stCxn id="740" idx="6"/>
              <a:endCxn id="741" idx="3"/>
            </p:cNvCxnSpPr>
            <p:nvPr/>
          </p:nvCxnSpPr>
          <p:spPr>
            <a:xfrm>
              <a:off x="4311720" y="2081160"/>
              <a:ext cx="2160" cy="1231200"/>
            </a:xfrm>
            <a:prstGeom prst="bentConnector3">
              <a:avLst>
                <a:gd name="adj1" fmla="val 14500000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sp>
          <p:nvSpPr>
            <p:cNvPr id="742" name=""/>
            <p:cNvSpPr/>
            <p:nvPr/>
          </p:nvSpPr>
          <p:spPr>
            <a:xfrm>
              <a:off x="5348160" y="336708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22800" y="203040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03880" y="331776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87680" y="322272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42" idx="4"/>
              <a:endCxn id="602" idx="0"/>
            </p:cNvCxnSpPr>
            <p:nvPr/>
          </p:nvCxnSpPr>
          <p:spPr>
            <a:xfrm flipH="1" rot="16200000">
              <a:off x="5206320" y="3654720"/>
              <a:ext cx="1008720" cy="635760"/>
            </a:xfrm>
            <a:prstGeom prst="bentConnector3">
              <a:avLst>
                <a:gd name="adj1" fmla="val 49910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746" name=""/>
            <p:cNvSpPr/>
            <p:nvPr/>
          </p:nvSpPr>
          <p:spPr>
            <a:xfrm>
              <a:off x="5432040" y="371304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5473800" y="3341520"/>
              <a:ext cx="114840" cy="114840"/>
              <a:chOff x="5473800" y="3341520"/>
              <a:chExt cx="114840" cy="114840"/>
            </a:xfrm>
          </p:grpSpPr>
          <p:sp>
            <p:nvSpPr>
              <p:cNvPr id="748" name=""/>
              <p:cNvSpPr/>
              <p:nvPr/>
            </p:nvSpPr>
            <p:spPr>
              <a:xfrm>
                <a:off x="5473800" y="334152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04040" y="334152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6200000">
                <a:off x="5521680" y="334116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4238640" y="33228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94120" y="33894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27520" y="33894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35360" y="3149640"/>
              <a:ext cx="5778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35360" y="3152880"/>
              <a:ext cx="57780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93040" y="3267000"/>
              <a:ext cx="2660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Bela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94120" y="3208320"/>
              <a:ext cx="360" cy="277920"/>
            </a:xfrm>
            <a:custGeom>
              <a:avLst/>
              <a:gdLst/>
              <a:ahLst/>
              <a:rect l="l" t="t" r="r" b="b"/>
              <a:pathLst>
                <a:path w="21600" h="8348400">
                  <a:moveTo>
                    <a:pt x="3600" y="0"/>
                  </a:moveTo>
                  <a:arcTo wR="3600" hR="3600" stAng="16200000" swAng="-5400000"/>
                  <a:lnTo>
                    <a:pt x="0" y="8344800"/>
                  </a:lnTo>
                  <a:arcTo wR="3600" hR="3600" stAng="10800000" swAng="-5400000"/>
                  <a:lnTo>
                    <a:pt x="18000" y="8348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216320" y="337032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8" name=""/>
            <p:cNvCxnSpPr>
              <a:stCxn id="759" idx="6"/>
              <a:endCxn id="731" idx="2"/>
            </p:cNvCxnSpPr>
            <p:nvPr/>
          </p:nvCxnSpPr>
          <p:spPr>
            <a:xfrm>
              <a:off x="4311360" y="3417480"/>
              <a:ext cx="600840" cy="10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759" name=""/>
            <p:cNvSpPr/>
            <p:nvPr/>
          </p:nvSpPr>
          <p:spPr>
            <a:xfrm>
              <a:off x="4222800" y="336708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14640" y="3151080"/>
              <a:ext cx="88920" cy="10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5720" y="315432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916440" y="201780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25720" y="202104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88080" y="268452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16280" y="267804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29520" y="523224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2" name=""/>
            <p:cNvCxnSpPr/>
            <p:nvPr/>
          </p:nvCxnSpPr>
          <p:spPr>
            <a:xfrm flipH="1" flipV="1" rot="5400000">
              <a:off x="2826000" y="2021040"/>
              <a:ext cx="1032480" cy="1227960"/>
            </a:xfrm>
            <a:prstGeom prst="bentConnector3">
              <a:avLst>
                <a:gd name="adj1" fmla="val 5688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763" name=""/>
            <p:cNvCxnSpPr>
              <a:stCxn id="741" idx="1"/>
              <a:endCxn id="699" idx="3"/>
            </p:cNvCxnSpPr>
            <p:nvPr/>
          </p:nvCxnSpPr>
          <p:spPr>
            <a:xfrm flipV="1" rot="10800000">
              <a:off x="3417840" y="3310560"/>
              <a:ext cx="317880" cy="9975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</p:grpSp>
      <p:sp>
        <p:nvSpPr>
          <p:cNvPr id="764" name=""/>
          <p:cNvSpPr/>
          <p:nvPr/>
        </p:nvSpPr>
        <p:spPr>
          <a:xfrm>
            <a:off x="4788000" y="4076640"/>
            <a:ext cx="3671640" cy="2781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1B12-3E88-4725-8F4A-9A9FC88AF9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8:25:17Z</dcterms:created>
  <dc:creator/>
  <dc:description/>
  <dc:language>en-US</dc:language>
  <cp:lastModifiedBy>Kloosterboer</cp:lastModifiedBy>
  <dcterms:modified xsi:type="dcterms:W3CDTF">2008-10-21T22:04:33Z</dcterms:modified>
  <cp:revision>60</cp:revision>
  <dc:subject/>
  <dc:title>Referentiemodel Stelsel van Gemeentelijke Basisgegevens (RSGB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haredFileIndex">
    <vt:lpwstr/>
  </property>
  <property fmtid="{D5CDD505-2E9C-101B-9397-08002B2CF9AE}" pid="4" name="_SourceUrl">
    <vt:lpwstr/>
  </property>
  <property fmtid="{D5CDD505-2E9C-101B-9397-08002B2CF9AE}" pid="5" name="display_urn:schemas-microsoft-com:office:office#Author">
    <vt:lpwstr>jvde</vt:lpwstr>
  </property>
  <property fmtid="{D5CDD505-2E9C-101B-9397-08002B2CF9AE}" pid="6" name="display_urn:schemas-microsoft-com:office:office#Editor">
    <vt:lpwstr>jvde</vt:lpwstr>
  </property>
  <property fmtid="{D5CDD505-2E9C-101B-9397-08002B2CF9AE}" pid="7" name="xd_ProgID">
    <vt:lpwstr/>
  </property>
  <property fmtid="{D5CDD505-2E9C-101B-9397-08002B2CF9AE}" pid="8" name="xd_Signature">
    <vt:lpwstr/>
  </property>
</Properties>
</file>